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325-6D6A-4AE5-BCE4-88139F9A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FDE-0A75-4B0E-99BA-593DDE34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320-6192-4547-8FDE-D3C77F66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1A1-07EF-40F2-BCED-323DCE6C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AAF1-A145-4DAF-958C-93C74D24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5A7A-1C50-448C-8F83-C894788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15CE-81B3-41E6-A404-22BDECAB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FD9A-326F-4D8A-9112-342E46A0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3C10-FF0D-42C5-B7B5-A4B357C9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E411-DAFE-4619-9F44-98F3DBDB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AC4F-2603-4CC2-9EB2-AFED4AD5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919-D577-438E-9E4E-5149A42D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52C5-0F40-4D71-82AF-192FB1A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B743-E664-4E56-ACAB-A967608C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6D89-BD02-48BB-8A19-F1DE11A7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766-6115-4F77-A444-12405D65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0646-054A-48B9-AF40-D9C6986B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C8F-3CF9-4CBF-95EB-5BB8EC4E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EC9-97DA-4BDA-9D3A-215B71A8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C6B-E807-466C-BDCE-11548DC0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6A5-5D63-4F80-B433-60078752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407-C677-4633-A2A5-4F7645FF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66E-2ED3-4795-9A9E-21C656B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3C1-D917-4011-838A-7BF1DC6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32D47-9241-43B8-AD9F-50A187E1CCD6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C4D01-014E-479D-9A6D-51784869CC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0AB62-6758-4F74-88BB-F7C4574CA628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08EDF-2F1B-441C-8F2C-CB6C192E85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8686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81816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omic"/>
              </a:rPr>
              <a:t>Anny Maria Going to the Mal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3040" y="3870000"/>
            <a:ext cx="63979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gency FB"/>
              </a:rPr>
              <a:t>Anny Maria</a:t>
            </a:r>
            <a:r>
              <a:rPr b="0" lang="en-US" sz="3200" spc="-1" strike="noStrike">
                <a:solidFill>
                  <a:srgbClr val="898989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em #1- Dark Wash Jea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240" cy="1515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42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1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1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first looked for the difference, then I divide 21.25 and 42.25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Dark Wash Skinny Jean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54400"/>
            <a:ext cx="2637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em #2- Reversible Pl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240" cy="1515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19.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3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33.02 and 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" descr="Reversible Plaid Sliding Halter Top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5120" y="3429000"/>
            <a:ext cx="2146320" cy="2390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Reversible Plaid Lowrider Bottom - Aéropostale®"/>
          <p:cNvPicPr/>
          <p:nvPr/>
        </p:nvPicPr>
        <p:blipFill>
          <a:blip r:embed="rId3"/>
          <a:stretch/>
        </p:blipFill>
        <p:spPr>
          <a:xfrm>
            <a:off x="5851440" y="3429000"/>
            <a:ext cx="2146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tem #3- Solid Hooded Utility Jack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240" cy="1515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9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9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39.75 and 7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Solid Hooded Utility Jacket - Aéropostale®"/>
          <p:cNvPicPr/>
          <p:nvPr/>
        </p:nvPicPr>
        <p:blipFill>
          <a:blip r:embed="rId1"/>
          <a:stretch/>
        </p:blipFill>
        <p:spPr>
          <a:xfrm>
            <a:off x="4033800" y="3367080"/>
            <a:ext cx="30416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tem #4- Destroyed vintage medium stone wash skinny je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240" cy="152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4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4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24.75 and 4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" descr="Destroyed Vintage Medium Stone Wash Skinny Jean - Aéropostale®"/>
          <p:cNvPicPr/>
          <p:nvPr/>
        </p:nvPicPr>
        <p:blipFill>
          <a:blip r:embed="rId1"/>
          <a:stretch/>
        </p:blipFill>
        <p:spPr>
          <a:xfrm>
            <a:off x="3705120" y="3360600"/>
            <a:ext cx="2760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em #5- Rugby Reversi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240" cy="176508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19.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3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72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irst looked for the difference, then I divide 33.02 and 53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Rugby Reversible Triangle Top - Aéropostale®"/>
          <p:cNvPicPr/>
          <p:nvPr/>
        </p:nvPicPr>
        <p:blipFill>
          <a:blip r:embed="rId1"/>
          <a:stretch/>
        </p:blipFill>
        <p:spPr>
          <a:xfrm>
            <a:off x="3398760" y="3913200"/>
            <a:ext cx="2040120" cy="2239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Rugby Side Tie Bikini - Aéropostale®"/>
          <p:cNvPicPr/>
          <p:nvPr/>
        </p:nvPicPr>
        <p:blipFill>
          <a:blip r:embed="rId2"/>
          <a:stretch/>
        </p:blipFill>
        <p:spPr>
          <a:xfrm>
            <a:off x="5438880" y="3913200"/>
            <a:ext cx="2039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much did you spe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bought 2 swim wears for $39.96, 2 pairs of jeans for $46, and 1 jacket for $39.75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pent $125.7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iginal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riginal price of the two swim wears was $106. The jacket was $79.50. The two pairs of jeans was $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 saving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aved $151.7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percent of change is 55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I subtract $277.50 and $125.71. Then I  divided $151.79 by $277.5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44:40Z</dcterms:modified>
  <cp:revision>4</cp:revision>
  <dc:subject/>
  <dc:title>Write a title here.</dc:title>
</cp:coreProperties>
</file>