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815-2BCF-452E-A3BB-96193906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9C2-C5FA-4CFD-8289-4377C26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976-CF45-4418-B6B8-E5F2E95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A8D-2089-432D-BC68-AFF9721D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432-BDEA-4E49-9241-C535986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00C-1F81-4716-9207-039BC60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9CC-2320-4560-B0B6-8243AD1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C188-25E6-4395-B5BB-90E8364C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D3A-A179-4092-B66D-B1293FE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AF58-0161-4673-88D9-B311A23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66E-779C-4A4D-B872-0CB196F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ABD-780D-4688-8E06-C2BC68D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256-F524-4D28-9962-DCD3D18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6B0A-2ED7-4367-8C1D-A8D450C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3EE-F45D-40D6-A17B-CC9FFE6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45E-CD03-4049-B33B-EDECB486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A752-17D7-4922-B723-DF1F20A9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0A2-F2CE-437C-84EF-8E38459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828-CC3C-4E96-905A-50A3E03B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03E-9460-439E-80E6-CC511BF6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8AB-B195-450B-A719-8518259B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4D6-F10A-43FA-BA22-A04604A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85B-36E0-4598-8007-B359369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055-8428-4D84-BFC9-0681467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3EC88-9E7F-4A90-A0B1-D4DD1C7B8DB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22CB8-997D-419A-8494-3AC6BAB054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8F4DF-5069-4834-9487-2D5128BCAC55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18D52-1A90-4612-BB65-62B4F62F8C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686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18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"/>
              </a:rPr>
              <a:t>Anny Maria Going to the Mal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3040" y="3870000"/>
            <a:ext cx="63979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gency FB"/>
              </a:rPr>
              <a:t>Anny Maria</a:t>
            </a:r>
            <a:r>
              <a:rPr b="0" lang="en-US" sz="3200" spc="-1" strike="noStrike">
                <a:solidFill>
                  <a:srgbClr val="898989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1- Dark Wash Jea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2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first looked for the difference, then I divide 21.25 and 42.25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Dark Wash Skinny Jean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54400"/>
            <a:ext cx="2637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2- Reversible Pl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" descr="Reversible Plaid Sliding Halter Top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5120" y="3429000"/>
            <a:ext cx="2146320" cy="239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Reversible Plaid Lowrider Bottom - Aéropostale®"/>
          <p:cNvPicPr/>
          <p:nvPr/>
        </p:nvPicPr>
        <p:blipFill>
          <a:blip r:embed="rId3"/>
          <a:stretch/>
        </p:blipFill>
        <p:spPr>
          <a:xfrm>
            <a:off x="5851440" y="3429000"/>
            <a:ext cx="2146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3- Solid Hooded Utility Jack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9.75 and 7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Solid Hooded Utility Jacket - Aéropostale®"/>
          <p:cNvPicPr/>
          <p:nvPr/>
        </p:nvPicPr>
        <p:blipFill>
          <a:blip r:embed="rId1"/>
          <a:stretch/>
        </p:blipFill>
        <p:spPr>
          <a:xfrm>
            <a:off x="4033800" y="3367080"/>
            <a:ext cx="30416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4- Destroyed vintage medium stone wash skinny je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24.75 and 4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Destroyed Vintage Medium Stone Wash Skinny Jean - Aéropostale®"/>
          <p:cNvPicPr/>
          <p:nvPr/>
        </p:nvPicPr>
        <p:blipFill>
          <a:blip r:embed="rId1"/>
          <a:stretch/>
        </p:blipFill>
        <p:spPr>
          <a:xfrm>
            <a:off x="3705120" y="3360600"/>
            <a:ext cx="276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5- Rugby Revers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240" cy="17650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Rugby Reversible Triangle Top - Aéropostale®"/>
          <p:cNvPicPr/>
          <p:nvPr/>
        </p:nvPicPr>
        <p:blipFill>
          <a:blip r:embed="rId1"/>
          <a:stretch/>
        </p:blipFill>
        <p:spPr>
          <a:xfrm>
            <a:off x="3398760" y="3913200"/>
            <a:ext cx="2040120" cy="223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Rugby Side Tie Bikini - Aéropostale®"/>
          <p:cNvPicPr/>
          <p:nvPr/>
        </p:nvPicPr>
        <p:blipFill>
          <a:blip r:embed="rId2"/>
          <a:stretch/>
        </p:blipFill>
        <p:spPr>
          <a:xfrm>
            <a:off x="5438880" y="3913200"/>
            <a:ext cx="2039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much did you spe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ought 2 swim wears for $39.96, 2 pairs of jeans for $46, and 1 jacket for $39.7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pent $125.7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iginal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iginal price of the two swim wears was $106. The jacket was $79.50. The two pairs of jeans was $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 saving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ved $151.7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percent of change is 55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I subtract $277.50 and $125.71. Then I  divided $151.79 by $277.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40Z</dcterms:modified>
  <cp:revision>4</cp:revision>
  <dc:subject/>
  <dc:title>Write a title here.</dc:title>
</cp:coreProperties>
</file>