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900-73B6-44D0-8E19-76D0502F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CFB-FE6C-4C0F-9A1A-E65590F5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C24-A60F-4C74-A7A6-FCA48A7C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1BD-BF06-40E6-9E92-F6C7347D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B34A-0A8D-447C-AD93-2FA9982C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BD44-5A87-42C4-8C38-A45A628F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1406-C552-458B-9F3C-28032582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5E15-EAAB-4874-943E-2B3D9B7E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F348-1846-4887-BF1D-2DE1509E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D3C2-7120-4951-8D5F-703A20F9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D869-C3D4-4EBC-86E8-00FA9DD1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43E-DCDD-4129-A778-74A078C5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ABFE-099D-4424-A1FF-60493470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AF20-CF38-4A5D-83D4-2FB0F62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27A5-2654-4E90-83DD-1235F8B8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40CB-1ECB-4F8B-80DD-6A06D4C0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9918-1A05-41AC-8430-333A0E1F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343-8A92-47ED-8D0C-699F0F6A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818-8724-4A6E-A97F-77AB7A91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361-743B-4A5C-BF44-04A6FC5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E94-ABC5-43A9-A5B3-4B5ED86F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390-FEB2-49BF-B0F6-C5C3707B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00D-0B4B-4366-B31F-3CEF1D5D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8CA-8E70-4378-ABCA-56F7949B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CD84A-3517-4267-91BA-1F5240AC8A70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D9DF3-1315-4F18-9354-69C295026A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32FDA-628A-404D-94CA-163F2FF5DA13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B6EB4-7EE0-4529-9496-B380564A1D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8686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81816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omic"/>
              </a:rPr>
              <a:t>Anny Maria Going to the Mal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3040" y="3870000"/>
            <a:ext cx="63979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gency FB"/>
              </a:rPr>
              <a:t>Anny Maria</a:t>
            </a:r>
            <a:r>
              <a:rPr b="0" lang="en-US" sz="3200" spc="-1" strike="noStrike">
                <a:solidFill>
                  <a:srgbClr val="898989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em #1- Dark Wash Jea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240" cy="1515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42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1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1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first looked for the difference, then I divide 21.25 and 42.25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Dark Wash Skinny Jean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54400"/>
            <a:ext cx="2637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em #2- Reversible Pl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240" cy="1515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19.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3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33.02 and 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" descr="Reversible Plaid Sliding Halter Top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5120" y="3429000"/>
            <a:ext cx="2146320" cy="2390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Reversible Plaid Lowrider Bottom - Aéropostale®"/>
          <p:cNvPicPr/>
          <p:nvPr/>
        </p:nvPicPr>
        <p:blipFill>
          <a:blip r:embed="rId3"/>
          <a:stretch/>
        </p:blipFill>
        <p:spPr>
          <a:xfrm>
            <a:off x="5851440" y="3429000"/>
            <a:ext cx="2146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tem #3- Solid Hooded Utility Jack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240" cy="1515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9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9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39.75 and 7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Solid Hooded Utility Jacket - Aéropostale®"/>
          <p:cNvPicPr/>
          <p:nvPr/>
        </p:nvPicPr>
        <p:blipFill>
          <a:blip r:embed="rId1"/>
          <a:stretch/>
        </p:blipFill>
        <p:spPr>
          <a:xfrm>
            <a:off x="4033800" y="3367080"/>
            <a:ext cx="30416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tem #4- Destroyed vintage medium stone wash skinny je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4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4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24.75 and 4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" descr="Destroyed Vintage Medium Stone Wash Skinny Jean - Aéropostale®"/>
          <p:cNvPicPr/>
          <p:nvPr/>
        </p:nvPicPr>
        <p:blipFill>
          <a:blip r:embed="rId1"/>
          <a:stretch/>
        </p:blipFill>
        <p:spPr>
          <a:xfrm>
            <a:off x="3705120" y="3360600"/>
            <a:ext cx="2760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em #5- Rugby Reversi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240" cy="176508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19.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3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33.02 and 53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Rugby Reversible Triangle Top - Aéropostale®"/>
          <p:cNvPicPr/>
          <p:nvPr/>
        </p:nvPicPr>
        <p:blipFill>
          <a:blip r:embed="rId1"/>
          <a:stretch/>
        </p:blipFill>
        <p:spPr>
          <a:xfrm>
            <a:off x="3398760" y="3913200"/>
            <a:ext cx="2040120" cy="2239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Rugby Side Tie Bikini - Aéropostale®"/>
          <p:cNvPicPr/>
          <p:nvPr/>
        </p:nvPicPr>
        <p:blipFill>
          <a:blip r:embed="rId2"/>
          <a:stretch/>
        </p:blipFill>
        <p:spPr>
          <a:xfrm>
            <a:off x="5438880" y="3913200"/>
            <a:ext cx="2039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much did you spe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bought 2 swim wears for $39.96, 2 pairs of jeans for $46, and 1 jacket for $39.75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pent $125.7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iginal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riginal price of the two swim wears was $106. The jacket was $79.50. The two pairs of jeans was $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 saving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aved $151.7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percent of change is 55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I subtract $277.50 and $125.71. Then I  divided $151.79 by $277.5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44:40Z</dcterms:modified>
  <cp:revision>4</cp:revision>
  <dc:subject/>
  <dc:title>Write a title here.</dc:title>
</cp:coreProperties>
</file>