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36D-6FF5-498F-A9E5-B1EA8FA2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716-CF96-4B20-84D4-6DF64C28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E615-158B-40DD-ABF9-FCD00179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D13-3940-41E2-8CA6-BE00DAD6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ABCA-20E8-4D1C-929F-97BB603A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AAD7-BE17-496C-82C2-28EDC20B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4BD-7865-4AEB-9FF2-591EA933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919A-DDE0-42DD-986C-91E40146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75DA-6E6E-4347-87BE-0BCA0BEA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B6E1-3118-4A72-B739-009CD6A1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294B-477E-47A6-99AE-2DB6D3F0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2B5-C679-4CB3-BACE-BA5E7E98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294A6-EC69-40F6-AB3B-0252AC0829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D1F60-E78F-433E-ACC8-19AE8768F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Informal Roman"/>
              </a:rPr>
              <a:t>Jasson Nunez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your purchases (I bought  ____________  for $_______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your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3T14:25:48Z</dcterms:modified>
  <cp:revision>3</cp:revision>
  <dc:subject/>
  <dc:title>Write a title here.</dc:title>
</cp:coreProperties>
</file>