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DB84-7EC9-4B69-9CE3-049B5573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618-0A15-474A-9EB0-EB042840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B1FA-94F9-4528-8975-62F0D143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6971-D921-44D0-AE1F-91FCF561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7670-6EF4-4906-BAA1-F9451AB3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3EBF-DDAC-4115-9FB1-D7A2AF1B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5CC3-A33A-47F8-8FD5-155B6D5C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72FA-A33D-4D2B-BE7D-6E4C4F3D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92D8-9714-42C4-9B45-C31C341B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4402-7913-4EDF-8774-4CACAE6F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C3A7-616D-470B-95E7-7C85E860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333E-18AC-4EE5-9F67-DB6ACA74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7CFAC-3FBF-4B08-A79E-2AA8BFF9B7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131D2-CC12-44D2-8370-FE9B9BDC5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Informal Roman"/>
              </a:rPr>
              <a:t>Jasson Nunez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a sentence here about how you found the per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a sentence here about how you found the per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a sentence here about how you found the per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a sentence here about how you found the per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complete sentences to describe your purchases (I bought  ____________  for $_______.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o state your to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complete sentences to describe the original prices (The original price of____________  was $_______.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o state the total of original pr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elling how much you sa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stating the percent of 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3T14:25:48Z</dcterms:modified>
  <cp:revision>3</cp:revision>
  <dc:subject/>
  <dc:title>Write a title here.</dc:title>
</cp:coreProperties>
</file>