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98C-0D25-4684-8053-3B4CB3CB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2C0-9347-4C9A-8558-D1873880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3083-16D7-4D62-A2D1-35B36EE5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901-BFC0-4F84-AF31-19CC2742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E5B9-9AB9-4BCC-80DD-0B5A797A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377F-0E88-4DC9-8B81-78CC689C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283E-004E-4918-AC0F-80C17E9C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0018-8840-474F-BA44-C64CC2EE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DA72-2EF0-4382-A32F-56C941DD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1F35-2E34-4B83-B305-93ED266B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1D12-9AF9-474A-BD17-AA739C34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EE5-5A2F-42BD-BECA-C75EDA67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4833-CCFC-4B14-8027-45203ACD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AE4C-3440-435E-BE48-0D98B23A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17C7-9C9A-41D7-BF65-77F57E39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2A7C-D8C3-421A-AD5A-9364BABD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9273-CCDF-4BF5-AFE4-B6DBD5C9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851-D602-4DB1-844F-7C037A23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832-5E6E-46D6-9654-969BEFFF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286-CDCA-4B12-B5B9-0B4461F7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5F4-5D60-402A-BE27-131818F3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A3E0-3A35-4A5F-8FBD-3D8395F1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BB9-FED1-417D-9658-FBA0D0C4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52F-E449-446A-84F6-49D2C497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074B0-AE4F-4951-8F6A-1ECE51133D8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BCB7A-BDAA-4B59-98E6-14D108D49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B1BBF-5661-4B4D-AD16-C4E1D252C87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94421-B0C3-4BC7-9656-EEA8236A4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7&amp;vid=1&amp;pid=68494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82&amp;vid=1&amp;pid=768615&amp;actFltr=tru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59543&amp;vid=1&amp;pid=774139&amp;scid=774139062&amp;actFltr=tru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33182&amp;vid=1&amp;pid=772214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Percen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8989"/>
                </a:solidFill>
                <a:latin typeface="Times New Roman"/>
              </a:rPr>
              <a:t>Jose Mat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1- Jacke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subtract the original price with the new price.  Then the difference that is 19.51. Then I divide 19.51 and 79.50 that the original price that gives the percent of 25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618000"/>
            <a:ext cx="209232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2- Shirt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Box 4"/>
          <p:cNvSpPr/>
          <p:nvPr/>
        </p:nvSpPr>
        <p:spPr>
          <a:xfrm>
            <a:off x="457200" y="3981600"/>
            <a:ext cx="2612880" cy="146556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subtract 24.50 and 9.99 the difference is 14.51 . then I divide 14.51 and 24.50 that gives me a percent of 59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727440"/>
            <a:ext cx="207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3- Polo Shir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subtract 49.50 and 24.99 the difference is 24.51 . Then I divide for 49.50 is equal the percent 50%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825720"/>
            <a:ext cx="207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em #4- Jean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9933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tract 69.50 and 34.99 than give the difference of 34.51 the I divide the difference and 69.50 than give me a percent of 50% 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618000"/>
            <a:ext cx="207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ow much did you spend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bought  a jacket for $ 59.99 a shirt just for        $ 9.99 a polo shirt for $ 24.99 and a jeans for 34.5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iginal Pri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iginal price of the jacket was $79.5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iginal price of the shirt was $24.5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iginal price of the other shirt was $49.5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for the jeans the original price was $69.50. Then we add it all together  79.50+24.50+49.50+69.50=$223 and I just used $129.96 of $15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y savings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ll that I brought I spent $129.96 and I saved $93.04 for all the stuff that I brou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divide $93.04 and $223 that is for all the original price the percent that give was 0.42 = 42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0-28T17:44:31Z</dcterms:modified>
  <cp:revision>4</cp:revision>
  <dc:subject/>
  <dc:title>Write a title here.</dc:title>
</cp:coreProperties>
</file>