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25B-5272-4984-89FC-956D004A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432-5A28-4C07-B1AF-74911737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D3A-44D7-403D-94D1-E7E7232B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381-C9A9-4D90-B72F-2E4DEF35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D026-2FFC-4305-AABE-122806FD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FB34-55E8-4F88-A573-9F7D3EB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9854-69E4-4764-91CB-D8E2A86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692-F22E-4FEA-9744-FD4A2434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EFAE-A63E-49C8-B9D7-B80FDB78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CA07-FC9F-43D7-A1BC-8A524478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4BD-74F1-4B66-9587-88643C4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C07-F890-4C32-997D-7194BE6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3678-D48D-4DD5-B3A8-04739FD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9F34-A056-4AFF-BDC5-84619F3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C42-0263-4668-8A8D-97FE3371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8690-CBE2-412F-987A-B67DE50E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F722-627F-4892-B01C-9AAA0EB3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D34-9E81-4D3E-88CA-2804B3C1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10E-5A9C-46D1-A26B-AC9736E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9AE-B2A8-4DC6-9C24-037DB695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591-F44E-4E49-9C59-DB92F3F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E72-1A8F-4F5F-B509-3B16D24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594-85AD-4E95-B33E-570208C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388-C978-490C-A79D-684C4B3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06D3A-2E88-4AD5-A4D4-17D53AB3AD6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A7810-5479-4170-A590-616EA1036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9DA6A-9EF4-4681-8446-DD87E8F198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A1761-2BD9-401F-9F59-963F2E2AF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7&amp;vid=1&amp;pid=6849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2&amp;vid=1&amp;pid=768615&amp;actFltr=tru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9543&amp;vid=1&amp;pid=774139&amp;scid=774139062&amp;actFltr=tru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33182&amp;vid=1&amp;pid=77221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erc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8989"/>
                </a:solidFill>
                <a:latin typeface="Times New Roman"/>
              </a:rPr>
              <a:t>Jose Mat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1- Jacke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subtract the original price with the new price.  Then the difference that is 19.51. Then I divide 19.51 and 79.50 that the original price that gives the percent of 2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20923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2- Shirt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ubtract 24.50 and 9.99 the difference is 14.51 . then I divide 14.51 and 24.50 that gives me a percent of 59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72744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3- Polo Shir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ubtract 49.50 and 24.99 the difference is 24.51 . Then I divide for 49.50 is equal the percent 50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82572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4- Jean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tract 69.50 and 34.99 than give the difference of 34.51 the I divide the difference and 69.50 than give me a percent of 50%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bought  a jacket for $ 59.99 a shirt just for        $ 9.99 a polo shirt for $ 24.99 and a jeans for 34.5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iginal Pri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jacket was $79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shirt was $24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other shirt was $49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or the jeans the original price was $69.50. Then we add it all together  79.50+24.50+49.50+69.50=$223 and I just used $129.96 of $15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savings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that I brought I spent $129.96 and I saved $93.04 for all the stuff that I brou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ivide $93.04 and $223 that is for all the original price the percent that give was 0.42 = 42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44:31Z</dcterms:modified>
  <cp:revision>4</cp:revision>
  <dc:subject/>
  <dc:title>Write a title here.</dc:title>
</cp:coreProperties>
</file>