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06E-02FB-419C-A662-3BE8C480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8AE-EC4D-4F10-8A3C-CDD72A8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432-0373-4121-ABAE-4EDB4EFE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EE1-CB68-44B5-A9CA-B670E5D4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D577-2C92-497E-8F6C-428BECDE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D43C-84FD-4127-9B66-08EF8ED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5210-778C-4B53-80D6-A3BA061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4B6D-F909-4DBD-B24A-D56AF75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80F9-3FF1-417E-8F22-F174093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4E9-1013-43FD-A82C-E9B4557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D90F-763E-4DA7-93DD-3569755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2A5-13DC-4E25-8046-8457CAF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6E9D-3447-4856-B2BC-FAFDDE8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B9A-3DC6-4937-979A-C229B51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DA9E-56DB-4AFB-80B4-5FADE46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D028-1895-4DC8-AA65-C2ED56B1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D77-77C0-4A81-9596-AD364A1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7C9-B982-419A-8886-E7B66EDF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FB1-F938-4005-AC3F-677CD08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14A-37A5-4BB0-922F-8D031FC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DC1-07A9-45F4-982A-9EB2B33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CB0-8EFB-467D-A8C1-94D9D82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73C-12BF-4C91-97C8-CA06A43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489-D343-48C4-A32E-EAB9FDB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BCCAC-BD2D-4A45-B9F3-4F51FCD7CC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50080-7E81-4EE0-81EA-0260E2CB0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50BA8-6186-4506-9890-EDCFF7B79E1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B40A2-CC32-4215-A46E-11497DDFB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7&amp;vid=1&amp;pid=6849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2&amp;vid=1&amp;pid=768615&amp;actFltr=tru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9543&amp;vid=1&amp;pid=774139&amp;scid=774139062&amp;actFltr=tru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33182&amp;vid=1&amp;pid=77221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erc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8989"/>
                </a:solidFill>
                <a:latin typeface="Times New Roman"/>
              </a:rPr>
              <a:t>Jose Mat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1- Jack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subtract the original price with the new price.  Then the difference that is 19.51. Then I divide 19.51 and 79.50 that the original price that gives the percent of 2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923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2- Shirt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24.50 and 9.99 the difference is 14.51 . then I divide 14.51 and 24.50 that gives me a percent of 59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72744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3- Polo Shir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49.50 and 24.99 the difference is 24.51 . Then I divide for 49.50 is equal the percent 50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82572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4- Jean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tract 69.50 and 34.99 than give the difference of 34.51 the I divide the difference and 69.50 than give me a percent of 50%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bought  a jacket for $ 59.99 a shirt just for        $ 9.99 a polo shirt for $ 24.99 and a jeans for 34.5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iginal Pri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jacket was $7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shirt was $24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other shirt was $4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or the jeans the original price was $69.50. Then we add it all together  79.50+24.50+49.50+69.50=$223 and I just used $129.96 of $15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savings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that I brought I spent $129.96 and I saved $93.04 for all the stuff that I brou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ivide $93.04 and $223 that is for all the original price the percent that give was 0.42 = 42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31Z</dcterms:modified>
  <cp:revision>4</cp:revision>
  <dc:subject/>
  <dc:title>Write a title here.</dc:title>
</cp:coreProperties>
</file>