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4BC-CA18-40C4-B641-DC2AD4E8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E64-28F9-47F7-8B6E-846375FD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4EE-7C1F-474D-9EDC-4EB2927C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DED-1064-4BA0-AAB3-F939E116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9C8-8D5E-4930-9A40-B095697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08E-156D-49EF-82EF-3E0DA74F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32B-6893-43E3-B1C9-00AFD3B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38D-9C5E-45E6-B6C6-41A33FF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8FA-9BD7-4F83-9174-C927F56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2DB-8C8D-4863-9DA2-48988EC5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4C4-66FD-4E89-9EB0-AE070D7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11C-F154-436C-A4DE-BA9EAA1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1F998-53F7-4033-9A78-9C8FCD1286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CF09A-305A-47C9-AB40-45A7A514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 title 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21:06Z</dcterms:modified>
  <cp:revision>4</cp:revision>
  <dc:subject/>
  <dc:title>Write a title here.</dc:title>
</cp:coreProperties>
</file>