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CB9-9799-48F6-8067-3CE5AA00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D6A-ACE6-4F86-8DA0-19C3FB7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CB2-8986-4CE3-95E7-C13513DC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CB7-4362-41CF-AB50-5E0E73E6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EAC-5006-4415-9340-23F017FF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E1F-90A0-45EF-9B5A-860BDD3C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E3B-0BCE-407D-BE73-A94E223E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2C8-395F-4BCE-BA99-2BC11A05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30C-4038-48BB-AB11-25782DE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140-C0FE-4672-BD43-C0CFAEDD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485-550D-4DCA-B914-6C4B688D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5A2-3F09-465E-BE81-FC0DCDA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C2824-C12B-4C40-9BA4-0BA0D64ABC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70C5C-F52D-43BD-A7A4-D07D4C10A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 title 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21:06Z</dcterms:modified>
  <cp:revision>4</cp:revision>
  <dc:subject/>
  <dc:title>Write a title here.</dc:title>
</cp:coreProperties>
</file>