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452-0EAE-4F4D-9F62-8D3B5531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A4E-09E7-4055-90AC-3E6A5FBD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758-F4FC-4FEA-9D9E-D2BAB6B4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9EF-A81B-498E-B54C-4BA15C29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35C5-9CFD-4626-B8D9-A3FFEEBA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0916-7940-42A6-871D-714B1010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FD7B-A33A-473F-B775-54F8881F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A269-34AF-4D2D-9D06-63ADE4ED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8D2B-7A8C-441C-917F-B37B795D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7B53-99A1-444A-A96D-5B495A0B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F762-9C6C-4FDF-9A34-D254CE41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8BD-BC89-45BD-8A38-851EFCDD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CAF7-25F4-4D95-AEC7-F7D83C7B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3D65-DAF4-401C-9339-053B23E8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A340-A674-4A3D-8C4A-4CDD9AE7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A00D-B47F-4517-A85B-31BEABC9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8508-6969-4CD5-A9B7-271DB64B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62C-B212-4A7F-87C8-318EEA8C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BDD-5FDA-49D9-AABB-07110200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EBF1-779C-47D3-A6E0-AC1F67A8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316-FA71-4D5E-9372-F1D7FCF8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54E-B6F9-4E0F-A844-FBEF0B17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BD3-283A-4F08-AD6D-29D303A7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62F-357F-472D-962F-636192D9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8487C-A105-4F5C-88DA-E5AB14281661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A85FD-7F0F-475B-8177-B011DA3A394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FB789-7483-4259-9F04-63AFE263AF3F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FDF09-6FCC-411C-BF67-6DAB5ED0542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39&amp;vid=1&amp;pid=75175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50&amp;vid=0&amp;pid=760945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alila in the mall.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549440" y="405900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 Black"/>
              </a:rPr>
              <a:t>Dalila Straub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02 -0.00231 0.02587 -0.00463 0.03889 -0.00648 C 0.04705 -0.01388 0.03629 -0.00463 0.04948 -0.01249 C 0.0625 -0.02059 0.07483 -0.031 0.08716 -0.04071 C 0.08993 -0.04858 0.09514 -0.06384 0.09896 -0.07055 C 0.10122 -0.07472 0.10469 -0.07772 0.10712 -0.08166 C 0.10556 -0.08374 0.10295 -0.08513 0.10243 -0.08813 C 0.10104 -0.09716 0.11146 -0.1078 0.11528 -0.11288 C 0.11337 -0.12445 0.11545 -0.13579 0.1165 -0.14735 C 0.11459 -0.14851 0.11181 -0.14828 0.11059 -0.15059 C 0.10851 -0.15475 0.11702 -0.16863 0.11893 -0.17095 C 0.12222 -0.18298 0.12882 -0.18991 0.13299 -0.20079 C 0.13698 -0.21143 0.14011 -0.22508 0.14705 -0.23225 C 0.14861 -0.24219 0.1566 -0.25746 0.16129 -0.26648 C 0.16268 -0.27227 0.16823 -0.28221 0.16823 -0.28221 C 0.16858 -0.28406 0.16945 -0.28522 0.16945 -0.28684 C 0.16945 -0.291 0.16771 -0.29517 0.16823 -0.29933 C 0.16858 -0.30234 0.17066 -0.30396 0.17188 -0.30581 C 0.17275 -0.31714 0.17639 -0.33842 0.18125 -0.34814 C 0.17743 -0.36688 0.17657 -0.3597 0.17882 -0.36988 C 0.17535 -0.38469 0.17778 -0.38515 0.16597 -0.38746 C 0.15729 -0.3833 0.15677 -0.38029 0.14948 -0.38746 C 0.13785 -0.38584 0.13542 -0.38631 0.12709 -0.37798 C 0.12396 -0.36664 0.11841 -0.36248 0.11302 -0.35276 C 0.11198 -0.35115 0.11216 -0.34768 0.11059 -0.34675 C 0.10747 -0.34397 0.10347 -0.34328 0.1 -0.34189 C 0.09844 -0.33495 0.09514 -0.3301 0.09306 -0.32316 C 0.09254 -0.32084 0.09254 -0.31853 0.09184 -0.31691 C 0.09097 -0.31437 0.08941 -0.31275 0.08837 -0.31043 C 0.08716 -0.30812 0.08577 -0.30534 0.08472 -0.3028 C 0.079 -0.28545 0.08629 -0.29979 0.07882 -0.28684 C 0.07309 -0.26347 0.0816 -0.29355 0.06945 -0.2681 C 0.06841 -0.26602 0.0691 -0.26278 0.06823 -0.26047 C 0.06736 -0.25792 0.06563 -0.25654 0.06476 -0.25422 C 0.06372 -0.25168 0.06354 -0.24844 0.06233 -0.24636 C 0.06146 -0.24497 0.05782 -0.24219 0.05886 -0.24312 C 0.06111 -0.24613 0.06337 -0.24844 0.06597 -0.25098 C 0.06736 -0.25191 0.06354 -0.24775 0.06233 -0.24636 C 0.0599 -0.23549 0.05313 -0.23525 0.04601 -0.23363 C 0.03837 -0.22947 0.03282 -0.22323 0.02483 -0.21952 C 0.02361 -0.22184 0.02292 -0.22461 0.02118 -0.226 C 0.02014 -0.22669 0.01893 -0.22461 0.01771 -0.22415 C 0.01302 -0.22276 0.00365 -0.21952 0.00365 -0.21952 C -0.00069 -0.21999 -0.00521 -0.21929 -0.00937 -0.22137 C -0.01128 -0.2223 -0.01128 -0.226 -0.01284 -0.22762 C -0.01423 -0.22878 -0.01597 -0.22947 -0.01753 -0.23063 C -0.02639 -0.24474 -0.03177 -0.25954 -0.04236 -0.27111 C -0.04028 -0.28661 -0.04409 -0.28776 -0.05052 -0.30095 C -0.0533 -0.30696 -0.05347 -0.31437 -0.05642 -0.31992 C -0.05833 -0.32362 -0.06128 -0.32593 -0.06354 -0.32917 C -0.06528 -0.33171 -0.06684 -0.33449 -0.06823 -0.33727 C -0.06909 -0.33889 -0.06909 -0.34189 -0.07048 -0.34328 C -0.07205 -0.34513 -0.07448 -0.34536 -0.07639 -0.34675 C -0.07986 -0.35947 -0.08698 -0.37428 -0.09531 -0.38284 C -0.10382 -0.4062 -0.121 -0.40666 -0.13871 -0.41106 C -0.1434 -0.41036 -0.14826 -0.41059 -0.15295 -0.40921 C -0.15781 -0.40782 -0.15746 -0.39949 -0.16232 -0.3951 C -0.16423 -0.38515 -0.16649 -0.37798 -0.17048 -0.36849 C -0.17222 -0.35878 -0.17326 -0.35207 -0.17639 -0.34328 C -0.1776 -0.32824 -0.17916 -0.3146 -0.17986 -0.29933 C -0.17916 -0.28267 -0.17864 -0.27735 -0.17639 -0.26347 C -0.17708 -0.23919 -0.17552 -0.20773 -0.19045 -0.1883 C -0.19635 -0.18043 -0.20573 -0.17881 -0.21284 -0.17395 C -0.22239 -0.17719 -0.21302 -0.17303 -0.22343 -0.18506 C -0.23229 -0.19547 -0.24479 -0.20287 -0.25399 -0.21351 C -0.26493 -0.22623 -0.275 -0.23872 -0.28698 -0.2496 C -0.29479 -0.26509 -0.30416 -0.27897 -0.31163 -0.2947 C -0.31597 -0.30419 -0.31649 -0.31228 -0.32222 -0.31992 C -0.32552 -0.3368 -0.33038 -0.35253 -0.33524 -0.36849 C -0.33802 -0.37798 -0.33837 -0.38862 -0.34236 -0.39695 C -0.34114 -0.39764 -0.33871 -0.39787 -0.33871 -0.39972 C -0.33871 -0.4018 -0.34132 -0.4018 -0.34236 -0.40296 C -0.34496 -0.40666 -0.3467 -0.41036 -0.3493 -0.41383 C -0.35052 -0.41915 -0.35069 -0.42494 -0.35295 -0.42956 C -0.35486 -0.4335 -0.36111 -0.43766 -0.36111 -0.43766 C -0.36406 -0.44321 -0.36649 -0.44298 -0.36927 -0.4483 C -0.37205 -0.44761 -0.375 -0.44714 -0.3776 -0.44552 C -0.38298 -0.44205 -0.39288 -0.4328 -0.39288 -0.4328 C -0.39409 -0.43326 -0.39531 -0.43535 -0.39635 -0.43419 C -0.39739 -0.4335 -0.40087 -0.421 -0.40104 -0.42008 C -0.40347 -0.41013 -0.40486 -0.40435 -0.41059 -0.39695 C -0.41337 -0.38422 -0.41475 -0.37035 -0.41649 -0.35739 C -0.41753 -0.31251 -0.41632 -0.28337 -0.40816 -0.24173 C -0.40937 -0.19084 -0.40087 -0.19709 -0.42222 -0.18182 C -0.45069 -0.19315 -0.40694 -0.17812 -0.44114 -0.18182 C -0.44392 -0.18205 -0.45451 -0.18737 -0.45989 -0.18991 C -0.46267 -0.19709 -0.46701 -0.19917 -0.47048 -0.20541 C -0.47882 -0.22114 -0.46545 -0.20194 -0.4776 -0.21814 C -0.47951 -0.23317 -0.48559 -0.23433 -0.49166 -0.24775 C -0.50868 -0.28522 -0.49166 -0.25237 -0.5 -0.2681 C -0.50416 -0.291 -0.50486 -0.3176 -0.52465 -0.32131 C -0.52621 -0.32454 -0.52743 -0.32801 -0.52934 -0.33079 C -0.53055 -0.33287 -0.53281 -0.33357 -0.53403 -0.33542 C -0.53715 -0.34004 -0.53941 -0.34768 -0.54236 -0.35276 C -0.546 -0.37081 -0.54566 -0.37081 -0.55399 -0.38399 C -0.55555 -0.3944 -0.56059 -0.40042 -0.56458 -0.40921 C -0.57083 -0.40389 -0.57187 -0.40713 -0.57413 -0.41545 C -0.57534 -0.4143 -0.57621 -0.41198 -0.5776 -0.41221 C -0.57934 -0.41268 -0.57986 -0.41592 -0.58107 -0.41707 C -0.58368 -0.42008 -0.58507 -0.42054 -0.58819 -0.4217 C -0.59566 -0.42124 -0.6033 -0.4217 -0.61059 -0.42008 C -0.61284 -0.41962 -0.61423 -0.41615 -0.61649 -0.41545 C -0.62187 -0.41406 -0.62743 -0.4143 -0.63281 -0.41383 C -0.64548 -0.41106 -0.65416 -0.40805 -0.66823 -0.4062 C -0.68819 -0.39625 -0.69618 -0.38607 -0.70937 -0.36387 C -0.71458 -0.35438 -0.71666 -0.34166 -0.71979 -0.33079 C -0.72257 -0.32246 -0.72465 -0.31506 -0.72569 -0.30581 C -0.72534 -0.29447 -0.72552 -0.28267 -0.72465 -0.27111 C -0.72396 -0.26602 -0.71909 -0.25353 -0.71736 -0.24775 C -0.7158 -0.24219 -0.71458 -0.23572 -0.71284 -0.23063 C -0.71163 -0.22739 -0.70816 -0.22137 -0.70816 -0.22137 C -0.70677 -0.21282 -0.70677 -0.20403 -0.70104 -0.1994 C -0.69271 -0.18413 -0.70278 -0.20032 -0.69288 -0.18991 C -0.68698 -0.18344 -0.68385 -0.17557 -0.67639 -0.17257 C -0.67135 -0.16771 -0.6658 -0.16701 -0.65989 -0.1647 C -0.65312 -0.16192 -0.64809 -0.15869 -0.64114 -0.15684 C -0.61944 -0.14504 -0.596 -0.14781 -0.57291 -0.14573 C -0.56528 -0.12607 -0.5559 -0.10641 -0.55173 -0.08466 C -0.55139 -0.07587 -0.55052 -0.06685 -0.55052 -0.05829 C -0.55052 -0.03979 -0.56076 -0.02568 -0.57048 -0.01411 C -0.57274 -0.00555 -0.56996 -0.01203 -0.57882 -0.00648 C -0.5908 0.00185 -0.60208 0.01573 -0.61528 0.02036 C -0.62222 0.03447 -0.63385 0.03562 -0.64114 0.0502 C -0.64149 0.05251 -0.64097 0.05598 -0.64236 0.05783 C -0.65034 0.06847 -0.65052 0.05205 -0.64826 0.06893 C -0.65017 0.0768 -0.65121 0.08466 -0.65399 0.0923 C -0.65538 0.10456 -0.65712 0.11867 -0.66232 0.12838 C -0.66649 0.16586 -0.6625 0.11126 -0.65764 0.14874 C -0.65573 0.16377 -0.65816 0.17904 -0.65642 0.19408 C -0.65538 0.20264 -0.65052 0.20958 -0.64826 0.2179 C -0.64948 0.21975 -0.65156 0.2216 -0.65173 0.22415 C -0.65191 0.226 -0.65069 0.22901 -0.6493 0.22854 C -0.64757 0.22808 -0.64774 0.22461 -0.64705 0.2223 C -0.64288 0.22947 -0.6401 0.2378 -0.63524 0.24451 C -0.63281 0.2563 -0.63628 0.24566 -0.62934 0.25376 C -0.62743 0.2563 -0.62656 0.25954 -0.62465 0.26162 C -0.62031 0.26694 -0.61423 0.26833 -0.60937 0.27273 C -0.60746 0.27134 -0.60538 0.27088 -0.60347 0.26926 C -0.60104 0.26741 -0.59913 0.26347 -0.59635 0.26301 C -0.59444 0.26301 -0.59323 0.26648 -0.59166 0.26787 C -0.5835 0.26209 -0.57691 0.25769 -0.56823 0.25376 C -0.5526 0.24011 -0.56944 0.2533 -0.55399 0.24612 C -0.55156 0.24497 -0.54948 0.24219 -0.54705 0.24104 C -0.54288 0.2304 -0.54496 0.2179 -0.53993 0.20819 C -0.53593 0.20865 -0.53177 0.20819 -0.52812 0.21004 C -0.52534 0.21143 -0.52378 0.21582 -0.52118 0.2179 C -0.51198 0.22461 -0.5026 0.23086 -0.49288 0.23641 C -0.46406 0.2533 -0.49687 0.226 -0.46458 0.25052 C -0.46041 0.25376 -0.45659 0.25769 -0.45295 0.26162 C -0.44982 0.26556 -0.44826 0.2718 -0.44462 0.27411 C -0.44045 0.27712 -0.43524 0.2762 -0.43055 0.27712 C -0.42239 0.28637 -0.41962 0.28637 -0.40937 0.28823 C -0.40642 0.29956 -0.41059 0.28637 -0.40468 0.29632 C -0.39913 0.30557 -0.39843 0.30812 -0.39531 0.31645 C -0.39166 0.34906 -0.38958 0.35832 -0.37517 0.38399 C -0.37309 0.38746 -0.3717 0.39186 -0.36927 0.3951 C -0.36771 0.39718 -0.36528 0.39764 -0.36354 0.39972 C -0.36076 0.4025 -0.35399 0.41175 -0.35173 0.41545 C -0.34479 0.42586 -0.34201 0.43928 -0.33524 0.44969 C -0.32986 0.45848 -0.31805 0.46426 -0.31059 0.46866 C -0.29878 0.46681 -0.29218 0.46148 -0.28107 0.45593 C -0.26163 0.44668 -0.24132 0.43997 -0.22222 0.42956 C -0.20816 0.42193 -0.19444 0.41383 -0.17986 0.40736 C -0.16979 0.39371 -0.16441 0.39371 -0.15052 0.39186 C -0.14774 0.38607 -0.14514 0.38029 -0.14236 0.37428 C -0.14149 0.37243 -0.14132 0.36988 -0.13993 0.36803 C -0.12639 0.35207 -0.1059 0.33865 -0.09045 0.3257 C -0.08628 0.3183 -0.08628 0.3102 -0.08229 0.30234 C -0.07882 0.28846 -0.08021 0.27319 -0.06927 0.26648 C -0.06614 0.25977 -0.06302 0.25977 -0.05764 0.25677 C -0.05052 0.25862 -0.04323 0.25862 -0.03646 0.26162 C -0.03437 0.26255 -0.03368 0.26648 -0.03177 0.26787 C -0.03003 0.26926 -0.02778 0.26879 -0.02587 0.26926 C -0.01909 0.27388 -0.0158 0.28013 -0.00937 0.28499 C -0.00607 0.28776 -0.00208 0.28869 0.00122 0.29146 C 0.00816 0.29655 0.01407 0.30419 0.02118 0.30881 C 0.02969 0.31436 0.03907 0.31737 0.04705 0.32454 C 0.05122 0.32824 0.05469 0.33333 0.05886 0.33703 C 0.06493 0.34235 0.06997 0.34397 0.07535 0.35091 C 0.07622 0.35392 0.07778 0.35716 0.07778 0.36017 C 0.07778 0.36271 0.075 0.36456 0.07535 0.36687 C 0.07587 0.37058 0.07847 0.37289 0.08004 0.37613 C 0.07847 0.37775 0.07483 0.37821 0.07535 0.38099 C 0.07691 0.38839 0.08316 0.39278 0.08594 0.39972 C 0.079 0.42054 0.08125 0.40874 0.08594 0.42632 C 0.08507 0.42887 0.08368 0.43118 0.08351 0.43419 C 0.08316 0.43951 0.08716 0.44737 0.08247 0.43696 C 0.08368 0.43604 0.08455 0.43373 0.08594 0.43419 C 0.08716 0.43465 0.08594 0.43951 0.08716 0.43882 C 0.08941 0.43743 0.08976 0.4328 0.09184 0.43072 C 0.09358 0.42956 0.09584 0.42979 0.09775 0.42956 C 0.09844 0.42725 0.09879 0.42494 0.1 0.42285 C 0.10087 0.42147 0.10278 0.42147 0.10365 0.42008 C 0.10782 0.41221 0.10521 0.41036 0.11181 0.40435 C 0.11841 0.39186 0.11459 0.39486 0.12118 0.39186 C 0.12309 0.38931 0.125 0.38631 0.12709 0.38399 C 0.12813 0.3826 0.12969 0.38214 0.13073 0.38099 C 0.13559 0.37543 0.13837 0.36849 0.14358 0.36364 C 0.14236 0.36248 0.14063 0.36225 0.14011 0.36017 C 0.13959 0.35878 0.14063 0.35716 0.14115 0.35577 C 0.14288 0.35138 0.14705 0.34328 0.14705 0.34328 C 0.15261 0.3146 0.14722 0.34953 0.15174 0.29308 C 0.15209 0.28776 0.15521 0.2836 0.1566 0.27874 C 0.1632 0.25584 0.15868 0.26879 0.16476 0.25237 C 0.16424 0.2378 0.16736 0.16724 0.15538 0.1455 C 0.15243 0.13417 0.15591 0.13625 0.14601 0.13139 C 0.14479 0.12931 0.14341 0.12746 0.14236 0.12538 C 0.14132 0.1226 0.14115 0.11959 0.14011 0.11728 C 0.13472 0.10594 0.125 0.09762 0.1165 0.09091 C 0.10157 0.06662 0.09011 0.06361 0.06823 0.05297 C -0.01666 0.01133 0.1066 0.05251 -0.06458 0.00925 C -0.11337 -0.00301 -0.16354 0 -0.21284 -0.00648 C -0.28819 -0.01596 -0.36337 -0.02244 -0.43871 -0.03007 C -0.71909 -0.02498 -0.27396 -0.05714 -0.1658 -0.02545 C -0.16007 -0.02151 -0.1592 -0.01666 -0.15399 -0.01134 C -0.14357 -0.00116 -0.13038 0.00254 -0.11875 0.00925 C -0.09757 0.04858 -0.11354 0.01527 -0.20694 0.01226 C -0.26232 0.01087 -0.31753 0.00948 -0.37291 0.00763 C -0.43316 0.0081 -0.5125 0.000920000000000001 -0.57986 0.01226 C -0.50573 0.01665 -0.42934 -0.00278 -0.35642 -0.01596 C -0.27291 -0.03077 -0.18923 -0.04048 -0.10694 -0.06593 C -0.046 -0.0849 0.01007 -0.12283 0.07188 -0.13648 C 0.079 -0.14018 0.09115 -0.14781 0.1 -0.14573 C 0.10174 -0.14527 0.0967 -0.14388 0.09532 -0.14273 C 0.09358 -0.14134 0.09236 -0.13949 0.09063 -0.13787 C 0.08212 -0.13162 0.06979 -0.12885 0.06129 -0.127 C 0.01042 -0.11659 0.00868 -0.1189 -0.04826 -0.11635 C -0.22343 -0.09415 -0.1493 -0.09924 -0.27048 -0.09415 C -0.29739 -0.09068 -0.32691 -0.08998 -0.35399 -0.08466 C -0.33837 -0.09299 -0.32205 -0.09993 -0.30694 -0.10988 C -0.29444 -0.11821 -0.28281 -0.12954 -0.26927 -0.13509 C -0.25677 -0.13995 -0.2434 -0.13787 -0.23055 -0.13972 C -0.19757 -0.16447 -0.16163 -0.18853 -0.13177 -0.21952 C -0.12309 -0.25353 -0.19618 -0.24705 -0.20937 -0.24775 C -0.22656 -0.2489 -0.24392 -0.25075 -0.26111 -0.25098 C -0.325 -0.25191 -0.38906 -0.25191 -0.45295 -0.25237 C -0.43194 -0.25815 -0.41319 -0.26093 -0.39166 -0.26186 C -0.33489 -0.29146 -0.39375 -0.2644 -0.29635 -0.28869 C -0.02569 -0.35647 -0.25573 -0.30812 -0.09635 -0.34027 C -0.00555 -0.38422 0.03177 -0.36502 -0.22343 -0.35438 C -0.31406 -0.35068 -0.40468 -0.34837 -0.49531 -0.3449 C -0.5118 -0.34305 -0.59705 -0.34189 -0.62222 -0.32454 C -0.49218 -0.2991 -0.35712 -0.32778 -0.22587 -0.33264 C -0.14826 -0.33542 0.00712 -0.33865 0.00712 -0.33865 C 0.029 -0.33819 0.05104 -0.33819 0.07292 -0.33727 C 0.07413 -0.33727 0.07049 -0.33611 0.06945 -0.33542 C 0.06615 -0.3331 0.06337 -0.32986 0.06007 -0.32778 C 0.04775 -0.31922 0.0349 -0.31228 0.0224 -0.30419 C 0.00972 -0.29632 -0.00225 -0.28614 -0.01528 -0.2792 C -0.03403 -0.26903 -0.05416 -0.26301 -0.07291 -0.25237 C -0.11892 -0.22623 -0.16389 -0.19593 -0.20937 -0.16771 C -0.23437 -0.15221 -0.26163 -0.14458 -0.28698 -0.13047 C -0.30833 -0.11821 -0.32882 -0.10363 -0.3493 -0.08929 C -0.36805 -0.07634 -0.3868 -0.06361 -0.40468 -0.04881 C -0.42482 -0.03192 -0.46354 0.00463 -0.46354 0.00463 C -0.4651 0.00856 -0.46805 0.01226 -0.46823 0.01712 C -0.46927 0.04326 -0.43784 0.03655 -0.42812 0.03747 C -0.41128 0.0384 -0.39444 0.03932 -0.3776 0.04048 C -0.30191 0.03886 -0.22621 0.03447 -0.15052 0.03609 C -0.10573 0.03655 -0.05937 0.03007 -0.01649 0.04673 C 0.00486 0.05505 -0.06024 0.05783 -0.08229 0.06269 C -0.10382 0.06708 -0.12552 0.07009 -0.14705 0.07495 C -0.22257 0.09276 -0.29618 0.11473 -0.36232 0.16771 C -0.36111 0.17395 -0.36146 0.18089 -0.35885 0.18621 C -0.35486 0.195 -0.33923 0.20125 -0.33403 0.20379 C -0.30538 0.21744 -0.27604 0.22022 -0.24583 0.22415 C -0.20607 0.22184 -0.16475 0.23201 -0.12934 0.20518 C -0.14739 0.19847 -0.16215 0.1994 -0.18107 0.20032 C -0.26857 0.21258 -0.35434 0.23132 -0.43281 0.28684 C -0.44427 0.30442 -0.43055 0.31159 -0.41059 0.31969 C -0.39097 0.32709 -0.37066 0.33148 -0.35052 0.33541 C -0.18767 0.36549 -0.01909 0.36271 0.14479 0.36803 C 0.1757 0.36734 0.20677 0.36664 0.23768 0.36502 C 0.23889 0.36502 0.24219 0.36456 0.24115 0.36364 C 0.23368 0.3567 0.20382 0.35832 0.19306 0.35739 C 0.19549 0.33865 0.21094 0.31783 0.21893 0.30234 C 0.22483 0.29123 0.23143 0.26255 0.2342 0.25237 C 0.2349 0.24266 0.23907 0.18529 0.23889 0.17997 C 0.23577 0.11381 0.22882 0.09091 0.2165 0.02822 C 0.21233 0.00717 0.19514 -0.04372 0.17535 -0.0502 C 0.16163 -0.04696 0.14757 -0.04557 0.1342 -0.04071 C 0.1191 -0.03562 0.11163 -0.0111 0.10469 0.00463 C 0.10174 0.01804 0.09427 0.05158 0.0941 0.06269 C 0.09341 0.10687 0.11285 0.14781 0.12483 0.18968 C 0.13073 0.21004 0.13559 0.23132 0.14358 0.25052 C 0.15139 0.26926 0.16268 0.28499 0.17188 0.30234 C 0.18594 0.3294 0.19931 0.35693 0.21302 0.38399 C 0.22032 0.3981 0.23247 0.40689 0.24115 0.42008 C 0.26337 0.45339 0.26632 0.46866 0.27882 0.50312 C 0.28004 0.50266 0.28195 0.50312 0.28247 0.50127 C 0.3 0.44761 0.27066 0.5133 0.2941 0.4638 C 0.31927 0.35392 0.32604 0.24173 0.34358 0.12977 C 0.34844 0.05922 0.3507 -0.01134 0.35417 -0.08166 C 0.34219 -0.25839 0.35556 -0.17557 0.31771 -0.33079 C 0.31059 -0.35994 0.29983 -0.38769 0.29063 -0.41545 C 0.28351 -0.43743 0.26823 -0.47976 0.26823 -0.47976 C 0.26597 -0.49873 0.26025 -0.51423 0.25764 -0.53296 C 0.25729 -0.5628 0.25729 -0.59241 0.2566 -0.62225 C 0.2566 -0.62526 0.254 -0.64215 0.25295 -0.64423 C 0.2507 -0.64909 0.23924 -0.65626 0.2342 -0.65834 C 0.20903 -0.65418 0.19775 -0.61485 0.18247 -0.59103 C 0.17639 -0.58131 0.16875 -0.57344 0.16354 -0.5628 C 0.15799 -0.5517 0.15556 -0.53828 0.1507 -0.52672 C 0.14462 -0.51214 0.13681 -0.49896 0.13073 -0.48439 C 0.09132 -0.38839 0.14202 -0.49318 0.09306 -0.39695 C 0.08455 -0.34999 0.08143 -0.30696 0.08004 -0.25862 C 0.08091 -0.23525 0.07986 -0.21166 0.08247 -0.1883 C 0.08455 -0.16979 0.0941 -0.13509 0.0941 -0.13509 C 0.09549 -0.0886 0.10087 -0.03701 0.08716 0.00625 C 0.08195 0.03979 0.08924 0.00347 0.07657 0.03747 C 0.07431 0.04326 0.07379 0.0502 0.07188 0.05644 C 0.06997 0.06222 0.06667 0.06755 0.06476 0.07333 C 0.06268 0.08073 0.06233 0.0886 0.06007 0.0953 C 0.05834 0.10109 0.05504 0.10548 0.05295 0.11126 C 0.04236 0.14041 0.03611 0.16424 0.01771 0.18621 C 0.01389 0.19061 0.00347 0.19732 0 0.20032 C -0.0033 0.20333 -0.00573 0.20773 -0.00937 0.21004 C -0.01302 0.21189 -0.01736 0.21189 -0.02118 0.21305 C -0.0342 0.21675 -0.03993 0.21929 -0.05173 0.22415 C -0.0776 0.21212 -0.04444 0.22623 -0.11284 0.21929 C -0.12343 0.21837 -0.13802 0.1994 -0.14583 0.19107 C -0.15295 0.17511 -0.15625 0.15961 -0.16111 0.14249 C -0.15989 0.06662 -0.15989 -0.00902 -0.15764 -0.08466 C -0.15503 -0.17604 -0.13698 -0.2873 -0.06927 -0.33264 C -0.06684 -0.33148 -0.05903 -0.33033 -0.05642 -0.32616 C -0.05486 -0.32385 -0.05486 -0.31992 -0.05295 -0.31853 C -0.04982 -0.31552 -0.04583 -0.31506 -0.04236 -0.31367 C -0.03281 -0.30419 -0.03993 -0.31136 -0.04583 -0.31506 C -0.05017 -0.31807 -0.06284 -0.32177 -0.0658 -0.32316 C -0.10868 -0.34004 -0.06753 -0.32848 -0.1493 -0.34189 C -0.20607 -0.35115 -0.26163 -0.36132 -0.31753 -0.37798 C -0.33646 -0.38353 -0.37413 -0.39695 -0.37413 -0.39695 C -0.38593 -0.40782 -0.39705 -0.41823 -0.41059 -0.42494 C -0.41354 -0.43118 -0.41493 -0.43188 -0.41996 -0.42956 C -0.42291 -0.41869 -0.41944 -0.42979 -0.42934 -0.41221 C -0.43073 -0.40967 -0.43107 -0.40643 -0.43281 -0.40435 C -0.43559 -0.40157 -0.43923 -0.40019 -0.44236 -0.3981 C -0.45139 -0.37312 -0.45642 -0.35369 -0.46111 -0.32616 C -0.45139 -0.28198 -0.46232 -0.1883 -0.46232 -0.1883 C -0.46007 -0.1071 -0.45503 -0.0266 -0.47882 0.0502 C -0.48107 0.07379 -0.48298 0.09345 -0.48941 0.11566 C -0.48819 0.1455 -0.48871 0.17557 -0.48576 0.20518 C -0.48507 0.21212 -0.48159 0.2179 -0.47882 0.22415 C -0.46128 0.26162 -0.44566 0.29123 -0.41406 0.30881 C -0.4033 0.31483 -0.39271 0.32408 -0.38107 0.32454 C -0.37014 0.32501 -0.3592 0.32524 -0.34826 0.3257 C -0.28159 0.31645 -0.23264 0.32385 -0.1835 0.26 C -0.16146 0.23155 -0.15104 0.19986 -0.13767 0.16424 C -0.13385 0.15452 -0.12899 0.14527 -0.12587 0.13463 C -0.12187 0.12098 -0.11649 0.0923 -0.11649 0.0923 C -0.11562 0.07888 -0.11632 0.06477 -0.11406 0.05158 C -0.11146 0.03585 -0.10295 0.0229 -0.09878 0.00763 C -0.08941 -0.02637 -0.09496 -0.0192 -0.08107 -0.06107 C -0.07691 -0.07379 -0.06823 -0.08328 -0.06354 -0.09577 C -0.05746 -0.11196 -0.0526 -0.12908 -0.04705 -0.14573 C -0.0434 -0.22808 -0.08229 -0.32154 -0.12934 -0.37335 C -0.14896 -0.39463 -0.17014 -0.41383 -0.19045 -0.43419 C -0.19965 -0.44344 -0.21111 -0.44761 -0.22118 -0.45478 C -0.23923 -0.46727 -0.25486 -0.47698 -0.27517 -0.47976 C -0.3283 -0.47907 -0.38212 -0.46819 -0.43403 -0.48601 C -0.44236 -0.48485 -0.45069 -0.48508 -0.45885 -0.48277 C -0.46423 -0.48138 -0.46875 -0.4756 -0.47413 -0.4749 C -0.4776 -0.47444 -0.48125 -0.47398 -0.48472 -0.47351 C -0.50486 -0.45431 -0.47916 -0.47652 -0.50468 -0.46241 C -0.50781 -0.46079 -0.50989 -0.45709 -0.51284 -0.45478 C -0.52309 -0.44714 -0.53264 -0.44159 -0.54236 -0.4328 C -0.56128 -0.41522 -0.57882 -0.39533 -0.59757 -0.37798 C -0.61666 -0.35994 -0.63732 -0.34305 -0.65399 -0.32131 C -0.66354 -0.30905 -0.671 -0.2954 -0.68107 -0.28406 C -0.68229 -0.27897 -0.68698 -0.26024 -0.68698 -0.25422 C -0.68698 -0.20495 -0.66649 -0.15915 -0.65885 -0.1115 C -0.65729 -0.09068 -0.6533 -0.07078 -0.65173 -0.0502 C -0.65573 -0.03007 -0.65382 -0.04187 -0.65052 0.00162 C -0.64913 0.01989 -0.64253 0.03215 -0.63646 0.04858 C -0.62187 0.08744 -0.61111 0.0953 -0.5835 0.11728 C -0.57968 0.12052 -0.57465 0.12006 -0.57048 0.12214 C -0.53663 0.13949 -0.57899 0.12399 -0.53767 0.14111 C -0.52864 0.14481 -0.49114 0.15522 -0.48698 0.1566 C -0.42899 0.14874 -0.37048 0.14481 -0.31284 0.13324 C -0.23246 0.11728 -0.18941 0.03354 -0.16232 -0.05829 C -0.16528 -0.08351 -0.16736 -0.10872 -0.17291 -0.13324 C -0.17378 -0.13671 -0.17951 -0.16077 -0.18107 -0.16331 C -0.18333 -0.16632 -0.1875 -0.16563 -0.19045 -0.16771 C -0.21093 -0.18251 -0.18489 -0.17002 -0.21059 -0.1802 C -0.22343 -0.17789 -0.2375 -0.18251 -0.25052 -0.18344 C -0.28021 -0.18991 -0.29392 -0.19524 -0.32708 -0.1883 C -0.37986 -0.17673 -0.34132 -0.17511 -0.38107 -0.15522 C -0.39236 -0.1499 -0.40468 -0.14805 -0.41649 -0.14458 C -0.46614 -0.09299 -0.42153 -0.14388 -0.45989 -0.08628 C -0.49531 -0.03285 -0.48107 -0.06685 -0.50937 -0.01134 C -0.52639 0.02244 -0.54843 0.05251 -0.55885 0.09091 C -0.56354 0.10803 -0.56701 0.12584 -0.57291 0.14249 C -0.59774 0.21143 -0.62725 0.28013 -0.65642 0.34606 C -0.67899 0.39764 -0.70816 0.44414 -0.72691 0.49826 C -0.73437 0.51978 -0.74288 0.55471 -0.74826 0.57506 C -0.75087 0.5864 -0.75278 0.60953 -0.75278 0.60953 C -0.75069 0.62965 -0.74809 0.65579 -0.73038 0.65973 C -0.70816 0.67916 -0.67205 0.65001 -0.6493 0.63937 C -0.61371 0.62272 -0.57465 0.61393 -0.53993 0.59565 C -0.51389 0.582 -0.52621 0.58594 -0.50347 0.58154 C -0.47534 0.56581 -0.50416 0.57946 -0.47291 0.57206 C -0.46406 0.56974 -0.45434 0.56234 -0.44583 0.55795 C -0.44218 0.55609 -0.43871 0.55378 -0.43524 0.5517 C -0.42882 0.5473 -0.41649 0.53759 -0.41649 0.53759 C -0.41371 0.53227 -0.41128 0.52649 -0.40816 0.52163 C -0.40573 0.51816 -0.40208 0.51631 -0.4 0.51238 C -0.39566 0.50405 -0.38837 0.47883 -0.38576 0.46866 C -0.39878 0.43465 -0.38507 0.47351 -0.39166 0.38214 C -0.3934 0.35878 -0.39982 0.30673 -0.41284 0.28499 C -0.4243 0.26602 -0.44722 0.25584 -0.46354 0.2489 C -0.47795 0.25006 -0.49253 0.24983 -0.50694 0.25237 C -0.53021 0.2563 -0.5585 0.28938 -0.5717 0.31506 C -0.57482 0.32084 -0.58194 0.34698 -0.5835 0.35276 C -0.58073 0.36849 -0.58142 0.38584 -0.5776 0.40111 C -0.56805 0.43951 -0.5434 0.45987 -0.51753 0.4749 C -0.47326 0.50058 -0.44218 0.50798 -0.39409 0.51238 C -0.35833 0.51006 -0.32239 0.51099 -0.28698 0.50474 C -0.27951 0.50312 -0.20625 0.46241 -0.2059 0.46241 C -0.19288 0.45778 -0.17916 0.45825 -0.1658 0.45593 C -0.15173 0.44969 -0.13715 0.44483 -0.12343 0.43696 C -0.09444 0.421 -0.06771 0.39764 -0.03767 0.38561 C -0.00382 0.37196 0.02778 0.35323 0.06007 0.33541 C -0.03229 0.30997 -0.21771 0.33056 -0.32708 0.33541 C -0.52274 0.35808 -0.38472 0.32801 -0.45989 0.36687 C -0.46232 0.37636 -0.46128 0.36849 -0.45399 0.36803 C -0.32621 0.36572 -0.19826 0.36502 -0.07048 0.36364 C -0.00502999999999999 0.36063 0.05834 0.34883 0.12361 0.34328 C 0.18681 0.3257 0.19983 0.33009 0.04827 0.33195 C -0.0309 0.34027 -0.10816 0.36225 -0.18698 0.37428 C -0.19878 0.3796 -0.21093 0.38353 -0.22222 0.39024 C -0.2283 0.39371 -0.23333 0.39926 -0.23871 0.40435 C -0.24132 0.40643 -0.24896 0.41268 -0.24583 0.41221 C -0.196 0.4025 -0.12135 0.37728 -0.07291 0.35577 C -0.06024 0.34999 -0.04896 0.34027 -0.03646 0.3338 C -0.02257 0.32662 -0.00816 0.3213 0.00591 0.31506 C 0.02674 0.29609 0.04618 0.28406 0.01059 0.28198 C -0.04496 0.27874 -0.10069 0.27666 -0.15642 0.27573 C -0.26614 0.27388 -0.37604 0.27365 -0.48576 0.27273 C -0.40677 0.24705 -0.32326 0.23826 -0.24236 0.23479 C -0.17708 0.2223 -0.11441 0.20379 -0.05173 0.17696 C -0.1059 0.15845 -0.06371 0.17164 -0.20104 0.17557 C -0.23212 0.1765 -0.26302 0.17904 -0.29409 0.17997 C -0.36198 0.18182 -0.42968 0.18228 -0.49757 0.18321 C -0.54548 0.18228 -0.5934 0.18436 -0.64114 0.17997 C -0.6533 0.17881 -0.61684 0.17557 -0.60468 0.17395 C -0.57569 0.17025 -0.5467 0.16632 -0.51753 0.16424 C -0.46076 0.16054 -0.29323 0.15753 -0.24114 0.1566 C -0.09184 0.13995 0.0566 0.11682 0.20591 0.10155 C 0.27795 0.08466 0.33837 0.08027 0.39896 0.02475 C 0.39393 -0.00069 0.35573 -0.0074 0.34358 -0.00948 C 0.29913 -0.01689 0.19861 -0.01781 0.16129 -0.01874 C 0.05677 -0.01804 -0.24948 -0.03053 -0.4059 -0.01249 C -0.42257 0.000920000000000001 -0.39375 -0.01064 -0.39288 -0.01134 C -0.37795 -0.02244 -0.35486 -0.04071 -0.33993 -0.04881 C -0.32864 -0.05482 -0.31614 -0.05598 -0.30468 -0.06107 C -0.29253 -0.06639 -0.28142 -0.07518 -0.26927 -0.08004 C -0.24409 -0.09022 -0.2184 -0.09762 -0.19288 -0.10687 C -0.1842 -0.10965 -0.16701 -0.11635 -0.16701 -0.11635 C -0.18159 -0.13047 -0.17257 -0.12445 -0.2 -0.12561 C -0.25416 -0.12723 -0.30816 -0.12931 -0.36232 -0.13047 C -0.48628 -0.13255 -0.61007 -0.13301 -0.73385 -0.13509 C -0.77621 -0.13579 -0.81875 -0.13694 -0.86111 -0.13787 C -0.74201 -0.15036 -0.63541 -0.15475 -0.51163 -0.15869 C -0.33715 -0.17488 -0.16718 -0.19385 0.00469 -0.23687 C 0.02431 -0.24682 0.04566 -0.25191 0.06354 -0.26648 C 0.07344 -0.27458 0.05747 -0.28823 0.04115 -0.29632 C 0.02778 -0.30349 0.01407 -0.3102 0 -0.31367 C -0.04375 -0.32385 -0.11493 -0.3257 -0.15764 -0.32616 C -0.30069 -0.32824 -0.44392 -0.32917 -0.58698 -0.33079 C -0.64548 -0.32663 -0.70382 -0.32316 -0.76232 -0.31853 C -0.80677 -0.31483 -0.79392 -0.31945 -0.81528 -0.31043 C -0.75069 -0.26602 -0.82048 -0.31298 -0.60937 -0.31228 C -0.54548 -0.31205 -0.41753 -0.30581 -0.41753 -0.30581 C -0.25486 -0.31228 -0.23646 -0.30951 -0.12708 -0.32616 C -0.16076 -0.3301 -0.19218 -0.32524 -0.22587 -0.32454 C -0.30503 -0.32316 -0.38437 -0.32339 -0.46354 -0.32316 C -0.14392 -0.33102 -0.49479 -0.3183 -0.24583 -0.33727 C -0.1184 -0.34698 0.01007 -0.34583 0.13768 -0.34953 C 0.0658 -0.34536 -0.00434 -0.32362 -0.07517 -0.30743 C -0.12916 -0.2947 -0.18159 -0.28985 -0.23177 -0.25862 C -0.24548 -0.23086 -0.18507 -0.23363 -0.18472 -0.23363 C -0.08854 -0.23248 0.00747 -0.23271 0.10365 -0.23225 C 0.10243 -0.23063 0.1 -0.2297 0.1 -0.22762 C 0.1 -0.22508 0.10538 -0.22323 0.10365 -0.22276 C 0.04584 -0.20264 -0.05746 -0.17604 -0.11875 -0.15984 C -0.15451 -0.15036 -0.22587 -0.13162 -0.22587 -0.13162 C -0.38541 -0.03632 -0.33298 -0.08836 -0.40104 -0.01411 C -0.38819 0.03007 -0.28802 0.06616 -0.26701 0.07194 C -0.16059 0.10155 -0.04791 0.10155 0.06007 0.10941 C 0.24792 0.12352 0.05191 0.11774 0.26823 0.12052 C 0.28959 0.13463 0.23021 0.13625 0.2224 0.13764 C 0.00919999999999999 0.18089 0.29913 0.11959 0.04948 0.18321 C 0.01007 0.19362 -0.02986 0.19847 -0.06927 0.20819 C -0.1335 0.22461 -0.21805 0.25283 -0.2835 0.27411 C -0.4375 0.38792 -0.3835 0.33796 -0.45399 0.40597 C -0.44896 0.42725 -0.44948 0.45293 -0.43871 0.47004 C -0.42673 0.48947 -0.40694 0.49734 -0.39045 0.50937 C -0.31996 0.56003 -0.3125 0.55795 -0.21875 0.57807 C -0.08958 0.60629 0.0415 0.60629 0.17188 0.61254 C 0.2382 0.62572 0.20191 0.61693 0.07188 0.6204 C 0.04202 0.62133 0.01233 0.62272 -0.01753 0.62364 C -0.09826 0.63151 -0.17916 0.63775 -0.25989 0.64423 C -0.27413 0.6898 -0.1967 0.64654 -0.1717 0.64076 C -0.16736 0.63891 -0.14809 0.62989 -0.14462 0.62665 C -0.1217 0.60768 -0.14843 0.62133 -0.12934 0.61254 C -0.12587 0.59079 -0.13159 0.61878 -0.12343 0.60028 C -0.12205 0.59704 -0.12239 0.59264 -0.12118 0.58917 C -0.11909 0.58339 -0.11406 0.57206 -0.11406 0.57206 C -0.11562 0.56257 -0.11962 0.55332 -0.11875 0.54383 C -0.11805 0.53528 -0.11146 0.53435 -0.10694 0.53134 C -0.07847 0.51284 -0.09288 0.51816 -0.07291 0.51238 C -0.06215 0.50451 -0.05087 0.50104 -0.03993 0.49341 E">
                                      <p:cBhvr>
                                        <p:cTn id="6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97 -0.33055 0.03211 -0.66111 0.07517 -0.68193 C 0.11805 -0.70275 0.22326 -0.25399 0.25763 -0.12537 C 0.29201 0.00323999999999999 0.31128 0.05043 0.28107 0.08929 C 0.25086 0.12815 0.13593 0.11219 0.07638 0.10803 C 0.01666 0.10387 -0.03282 0.08235 -0.07657 0.06431 C -0.12032 0.04627 -0.14914 0.03169 -0.18594 0 C -0.22275 -0.03169 -0.26511 -0.06893 -0.29775 -0.12537 C -0.33039 -0.18182 -0.37535 -0.27619 -0.38125 -0.33865 C -0.38716 -0.40111 -0.35625 -0.4631 -0.33299 -0.50011 C -0.30973 -0.53712 -0.304 -0.54962 -0.24132 -0.56118 C -0.1783 -0.57275 -0.04358 -0.61022 0.04444 -0.56905 C 0.13281 -0.52787 0.246 -0.39255 0.28819 -0.31344 C 0.33038 -0.23433 0.30868 -0.17048 0.29756 -0.09414 C 0.28645 -0.01781 0.29531 0.09831 0.22118 0.14412 C 0.14704 0.18992 -0.03386 0.18483 -0.14705 0.1802 C -0.26025 0.17558 -0.39792 0.16077 -0.45764 0.11589 C -0.51737 0.07102 -0.4981 -0.01503 -0.50591 -0.08929 C -0.51372 -0.16354 -0.51112 -0.25214 -0.50469 -0.32917 C -0.49827 -0.4062 -0.50973 -0.48901 -0.46702 -0.55193 C -0.42431 -0.61485 -0.35278 -0.68216 -0.24844 -0.70691 C -0.14375 -0.73166 0.06909 -0.70714 0.15989 -0.70067 C 0.25069 -0.69419 0.25642 -0.74416 0.29635 -0.66782 C 0.33628 -0.59148 0.40156 -0.3597 0.4 -0.24312 C 0.39843 -0.12653 0.32586 -0.04534 0.28697 0.03123 C 0.24809 0.1078 0.24739 0.21351 0.16701 0.21629 C 0.08663 0.21906 -0.09219 0.12075 -0.19532 0.04858 C -0.29844 -0.02359 -0.43438 -0.12792 -0.45174 -0.21628 C -0.4691 -0.30465 -0.34046 -0.41452 -0.3 -0.48138 C -0.25955 -0.54823 -0.25018 -0.5975 -0.20938 -0.61762 C -0.16875 -0.63775 -0.12119 -0.62757 -0.05643 -0.60189 C 0.00833 -0.57622 0.12638 -0.51122 0.17881 -0.46403 C 0.23125 -0.41684 0.26562 -0.39301 0.25763 -0.31829 C 0.24965 -0.24358 0.18975 -0.06754 0.13055 -0.01573 C 0.07135 0.03609 -0.04584 0.0081 -0.09775 -0.00786 C -0.14966 -0.02382 -0.18403 -0.05343 -0.18125 -0.11126 C -0.17848 -0.16909 -0.13889 -0.29909 -0.08125 -0.35438 C -0.02362 -0.40967 0.11197 -0.44968 0.16458 -0.44367 C 0.21718 -0.43766 0.22847 -0.35322 0.23402 -0.31829 C 0.23958 -0.28337 0.21545 -0.26486 0.19756 -0.23363 C 0.17968 -0.2024 0.18732 -0.1492 0.12708 -0.13023 C 0.06684 -0.11126 -0.10191 -0.04302 -0.16355 -0.11913 C -0.22518 -0.19523 -0.26841 -0.49479 -0.24254 -0.5864 C -0.21632 -0.678 -0.09931 -0.6699 -0.00712 -0.66944 C 0.08506 -0.66898 0.24565 -0.64816 0.31059 -0.58316 C 0.37552 -0.51816 0.51302 -0.4712 0.38229 -0.27897 C 0.25156 -0.08674 -0.33143 0.42887 -0.47414 0.57044 E">
                                      <p:cBhvr>
                                        <p:cTn id="10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erican Eagle Jea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 3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 29.95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 9.55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24%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TextBox 4"/>
          <p:cNvSpPr/>
          <p:nvPr/>
        </p:nvSpPr>
        <p:spPr>
          <a:xfrm>
            <a:off x="457200" y="3981600"/>
            <a:ext cx="2612880" cy="265428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I divide the original price     ($ 39.50) for the difference ($9.55) and I found the percent ($ 24%)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55" name="" descr="AE Soft Jegging"/>
          <p:cNvPicPr/>
          <p:nvPr/>
        </p:nvPicPr>
        <p:blipFill>
          <a:blip r:embed="rId1"/>
          <a:stretch/>
        </p:blipFill>
        <p:spPr>
          <a:xfrm>
            <a:off x="5000760" y="3646440"/>
            <a:ext cx="18856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4381E-007 C 0.01129 -0.00832 0.02222 -0.01156 0.0342 -0.01735 C 0.05226 -0.02591 0.06945 -0.03608 0.08716 -0.04557 C 0.09827 -0.05158 0.11077 -0.05852 0.12014 -0.06916 C 0.13073 -0.08073 0.13507 -0.09831 0.14479 -0.11126 C 0.14931 -0.12722 0.15834 -0.12931 0.16823 -0.13833 C 0.17952 -0.14804 0.18785 -0.16354 0.19896 -0.17395 C 0.20677 -0.18112 0.21545 -0.18621 0.22361 -0.19292 C 0.22691 -0.21397 0.26823 -0.2334 0.27535 -0.23826 C 0.28889 -0.24751 0.30052 -0.26116 0.31302 -0.27296 C 0.3349 -0.29262 0.35122 -0.30858 0.36354 -0.34166 C 0.37222 -0.39764 0.35643 -0.42817 0.32118 -0.45778 C 0.28229 -0.49063 0.29827 -0.48415 0.26476 -0.48901 C 0.20903 -0.5133 0.15521 -0.53527 0.09653 -0.54106 C 0.07726 -0.54453 0.07639 -0.54661 0.05417 -0.54106 C 0.05226 -0.54036 0.05104 -0.53782 0.04948 -0.5362 C 0.04323 -0.52903 0.03698 -0.52163 0.03073 -0.51422 C 0.0132 -0.49364 -2.7777799999941E-007 -0.46611 -0.01284 -0.44043 C -0.03767 -0.3907 -0.06354 -0.3449 -0.09531 -0.3028 C -0.09861 -0.29817 -0.10104 -0.29239 -0.10469 -0.28869 C -0.11319 -0.2799 -0.12517 -0.27735 -0.13524 -0.27434 C -0.15191 -0.25977 -0.14531 -0.26324 -0.16927 -0.25723 C -0.23906 -0.29123 -0.1592 -0.24959 -0.20347 -0.27897 C -0.21024 -0.2836 -0.21771 -0.28591 -0.22465 -0.29007 C -0.23385 -0.29539 -0.24288 -0.30095 -0.25173 -0.30719 C -0.28906 -0.3331 -0.31736 -0.3479 -0.34114 -0.39209 C -0.34236 -0.39879 -0.34288 -0.40597 -0.34444 -0.41221 C -0.346 -0.4173 -0.35017 -0.421 -0.35035 -0.42632 C -0.35104 -0.43396 -0.34809 -0.44113 -0.34687 -0.4483 C -0.35139 -0.48253 -0.346 -0.52116 -0.32587 -0.54545 C -0.31545 -0.55771 -0.30382 -0.56743 -0.29288 -0.57876 C -0.27031 -0.63844 -0.28941 -0.59796 -0.26701 -0.63173 C -0.26198 -0.63937 -0.25295 -0.65533 -0.25295 -0.65533 C -0.2526 -0.65787 -0.25295 -0.66111 -0.25173 -0.66319 C -0.25034 -0.66551 -0.24757 -0.66597 -0.24583 -0.66782 C -0.23524 -0.67892 -0.22587 -0.68841 -0.21284 -0.69442 C -0.20382 -0.69859 -0.18576 -0.70691 -0.18576 -0.70691 C -0.14271 -0.70529 -0.09948 -0.70645 -0.05642 -0.70229 C -0.01996 -0.69882 0.0092 -0.6625 0.04358 -0.65232 C 0.10799 -0.6049 0.1724 -0.55794 0.23646 -0.5096 C 0.26476 -0.48855 0.33177 -0.48276 0.33177 -0.48276 C 0.3691 -0.45524 0.3316 -0.47999 0.37188 -0.46241 C 0.4 -0.45038 0.37118 -0.45709 0.39063 -0.45339 C 0.39219 -0.45177 0.3941 -0.45038 0.39531 -0.4483 C 0.39809 -0.4439 0.39462 -0.44298 0.39896 -0.43928 C 0.40104 -0.43743 0.40365 -0.43696 0.40591 -0.43604 C 0.4132 -0.42378 0.42066 -0.41152 0.4283 -0.39972 C 0.43351 -0.39185 0.43507 -0.38006 0.44011 -0.3715 C 0.44896 -0.35716 0.46285 -0.3486 0.47188 -0.33402 C 0.49236 -0.30095 0.51042 -0.26463 0.5283 -0.229 C 0.54219 -0.20148 0.5474 -0.17048 0.55764 -0.1411 C 0.55972 -0.13532 0.56372 -0.13092 0.56597 -0.1256 C 0.56927 -0.11751 0.57136 -0.10895 0.57413 -0.10039 C 0.57535 -0.09206 0.57552 -0.0835 0.57778 -0.07541 C 0.58316 -0.05575 0.59184 -0.0377 0.59653 -0.01735 C 0.604 0.01388 0.61042 0.04927 0.6224 0.07842 C 0.62587 0.09993 0.63056 0.13972 0.64011 0.15799 C 0.64913 0.17581 0.65591 0.18876 0.66129 0.20842 C 0.66007 0.21212 0.65816 0.21536 0.65764 0.21929 C 0.65643 0.22809 0.66563 0.23294 0.66945 0.23826 C 0.66129 0.24543 0.66493 0.24543 0.65886 0.24289 C 0.5875 0.26255 0.51285 0.2452 0.44011 0.25075 C 0.41962 0.25029 0.39913 0.25122 0.37882 0.24914 C 0.37031 0.24821 0.3625 0.24312 0.35417 0.24127 C 0.33316 0.22901 0.34219 0.23202 0.3283 0.22878 C 0.31597 0.19732 0.32379 0.17951 0.32587 0.13625 C 0.32691 0.07634 0.32448 0.05182 0.33646 -0.00624 C 0.34167 -0.03169 0.35087 -0.05528 0.3566 -0.08027 C 0.37691 -0.1684 0.36268 -0.15174 0.39653 -0.2415 C 0.40347 -0.26 0.41493 -0.27504 0.4224 -0.29308 C 0.43108 -0.31413 0.43681 -0.33726 0.44479 -0.35901 C 0.45365 -0.38306 0.46302 -0.40643 0.47292 -0.42956 C 0.53038 -0.56488 0.48038 -0.43095 0.54011 -0.59889 C 0.54531 -0.61369 0.55538 -0.64284 0.55538 -0.64284 C 0.55799 -0.65787 0.55816 -0.67337 0.56129 -0.68818 C 0.56389 -0.70113 0.5691 -0.71293 0.57188 -0.72588 C 0.57222 -0.73791 0.57136 -0.75017 0.57292 -0.76197 C 0.57709 -0.79505 0.58004 -0.75225 0.57656 -0.78371 C 0.58073 -0.79343 0.58368 -0.79597 0.59184 -0.79782 C 0.60226 -0.80869 0.61476 -0.81795 0.62709 -0.82466 C 0.62865 -0.8235 0.6316 -0.82373 0.63177 -0.82142 C 0.63281 -0.81147 0.62327 -0.80453 0.61893 -0.79643 C 0.60747 -0.77515 0.61285 -0.77839 0.59653 -0.75711 C 0.58959 -0.74809 0.53629 -0.68309 0.52118 -0.66458 C 0.5092 -0.64978 0.49011 -0.6507 0.47535 -0.64122 C 0.43629 -0.61647 0.40191 -0.57946 0.36476 -0.55031 C 0.35972 -0.54013 0.35643 -0.52741 0.34948 -0.51908 C 0.33299 -0.49849 0.31111 -0.48693 0.2941 -0.4675 C 0.26285 -0.43095 0.29063 -0.46264 0.27188 -0.43118 C 0.26302 -0.41637 0.25799 -0.41499 0.24827 -0.40134 C 0.23004 -0.37589 0.24653 -0.39648 0.23299 -0.36988 C 0.23038 -0.36479 0.22622 -0.36086 0.22361 -0.35577 C 0.19549 -0.30095 0.22136 -0.34837 0.20469 -0.30719 C 0.19705 -0.28869 0.18716 -0.27134 0.18004 -0.25237 C 0.16059 -0.20055 0.16927 -0.22276 0.15417 -0.18529 C 0.15087 -0.17673 0.15018 -0.16701 0.14705 -0.15868 C 0.14097 -0.14203 0.13403 -0.12607 0.12709 -0.11011 C 0.10712 -0.0643 0.07917 0.00023 0.03542 0.00764 C 0.0033 0.00509 -0.02309 0.00555 -0.05295 -0.00948 C -0.06094 -0.01365 -0.06875 -0.0185 -0.07639 -0.02382 C -0.08802 -0.03169 -0.11059 -0.04881 -0.11059 -0.04881 C -0.13003 -0.0798 -0.1401 -0.10108 -0.1493 -0.13948 C -0.14705 -0.16609 -0.14722 -0.19338 -0.14236 -0.21952 C -0.13646 -0.25121 -0.09444 -0.32038 -0.08698 -0.33402 C -0.07899 -0.34883 -0.05521 -0.3944 -0.04462 -0.40782 C -0.00399 -0.45848 0.05087 -0.49988 0.10365 -0.5251 C 0.15087 -0.52024 0.18525 -0.49641 0.22587 -0.46865 C 0.24254 -0.45732 0.26025 -0.4483 0.27656 -0.43604 C 0.33993 -0.38838 0.42518 -0.33171 0.46597 -0.2445 C 0.48316 -0.17025 0.41806 -0.11751 0.38247 -0.08027 C 0.26788 0.04002 0.35365 -0.04256 0.22483 0.07518 C 0.20955 0.08906 0.19167 0.09646 0.17535 0.1078 C 0.0441 0.20148 0.19948 0.0997 0.06354 0.1802 C 0.04636 0.19038 0.03091 0.20542 0.01302 0.21305 C -0.00364 0.21976 -0.06267 0.22276 -0.08107 0.22415 C -0.1493 0.20842 -0.14791 0.21929 -0.19288 0.18483 C -0.2342 0.15267 -0.25052 0.10525 -0.2717 0.05136 C -0.29184 0.000699999999999999 -0.3026 -0.00786 -0.31736 -0.0643 C -0.32344 -0.08721 -0.32569 -0.11173 -0.33038 -0.13509 C -0.35486 -0.25376 -0.3408 -0.16007 -0.35503 -0.26972 C -0.3559 -0.31159 -0.35972 -0.35369 -0.35746 -0.39532 C -0.3559 -0.42771 -0.33003 -0.47328 -0.31163 -0.49225 C -0.30486 -0.49919 -0.29548 -0.50058 -0.28819 -0.50636 C -0.27656 -0.51561 -0.26719 -0.52949 -0.25521 -0.53782 C -0.21857 -0.56349 -0.17413 -0.57876 -0.13403 -0.58778 C -0.11076 -0.59287 -0.08715 -0.59542 -0.06354 -0.59727 C -0.01771 -0.60074 0.07413 -0.60351 0.07413 -0.60351 C 0.10955 -0.60213 0.18247 -0.61415 0.22118 -0.57876 C 0.22917 -0.57113 0.23594 -0.56141 0.24358 -0.55332 C 0.28021 -0.47675 0.30591 -0.39278 0.32483 -0.3058 C 0.32639 -0.27828 0.33177 -0.25029 0.33073 -0.22253 C 0.32709 -0.12977 0.32136 -0.08188 0.30243 -0.00185 C 0.29879 0.01388 0.29861 0.031 0.29306 0.04534 C 0.28264 0.07264 0.26788 0.09646 0.25538 0.12214 C 0.2467 0.13972 0.21337 0.1654 0.20243 0.17396 C 0.16927 0.2001 0.16424 0.20518 0.1283 0.21929 C 0.07865 0.23849 0.08941 0.23479 0.04236 0.23664 C 0.02153 0.23502 0.00052 0.23618 -0.01996 0.23202 C -0.0283 0.2304 -0.03541 0.223 -0.0434 0.21929 C -0.06059 0.21097 -0.07847 0.20542 -0.09531 0.19593 C -0.17621 0.15013 -0.15868 0.16748 -0.19635 0.12052 C -0.20347 0.09808 -0.20833 0.07541 -0.21284 0.05136 C -0.21354 0.04118 -0.22048 -0.05043 -0.21996 -0.05644 C -0.2151 -0.11011 -0.18594 -0.15221 -0.16354 -0.19292 C -0.1559 -0.20703 -0.15069 -0.22322 -0.14236 -0.23664 C -0.08559 -0.32824 0.00278 -0.36479 0.08004 -0.41221 C 0.16354 -0.4638 0.25104 -0.52625 0.34479 -0.53782 C 0.34757 -0.53759 0.36042 -0.53874 0.36476 -0.53296 C 0.37709 -0.51607 0.39323 -0.45986 0.39896 -0.44367 C 0.42379 -0.37474 0.4415 -0.30164 0.45538 -0.22739 C 0.45972 -0.17349 0.46337 -0.12028 0.46597 -0.06592 C 0.46094 -0.003 0.45955 0.05783 0.44601 0.11913 C 0.44132 0.14041 0.43802 0.16355 0.43073 0.18344 C 0.42761 0.2038 0.43212 0.23086 0.43542 0.25075 C 0.43611 0.25515 0.43716 0.25954 0.43889 0.26301 C 0.44063 0.26672 0.44601 0.27273 0.44601 0.27273 C 0.46563 0.26209 0.48247 0.24798 0.49653 0.22577 C 0.50382 0.21397 0.50834 0.2001 0.51528 0.18784 C 0.52257 0.17534 0.5316 0.1647 0.53889 0.15198 C 0.5882 0.06524 0.5158 0.17766 0.57882 0.07356 C 0.5974 0.0428 0.61684 0.01666 0.6342 -0.01411 C 0.63733 -0.01966 0.63976 -0.02544 0.64236 -0.03169 C 0.64688 -0.04187 0.65538 -0.06269 0.65538 -0.06269 C 0.65712 -0.08188 0.66285 -0.099 0.66719 -0.11751 C 0.65278 -0.17395 0.66545 -0.23363 0.63768 -0.28707 C 0.59358 -0.37127 0.62257 -0.31968 0.54479 -0.43604 C 0.52743 -0.46195 0.50226 -0.47629 0.48125 -0.49711 C 0.44861 -0.52926 0.41754 -0.57622 0.37656 -0.5894 C 0.35191 -0.58825 0.32917 -0.58269 0.30469 -0.57876 C 0.27778 -0.56789 0.2415 -0.55077 0.22361 -0.51908 C 0.20191 -0.48045 0.19028 -0.4365 0.17292 -0.39532 C 0.15851 -0.36086 0.13768 -0.33125 0.12709 -0.2947 C 0.12118 -0.27434 0.1165 -0.25352 0.10955 -0.23363 C 0.05469 -0.07818 0.07952 -0.14689 0.0283 -0.04557 C 0.00365 0.00324 -0.02031 0.05251 -0.04462 0.10155 C -0.10191 0.21768 -0.18698 0.31391 -0.26701 0.39973 C -0.30694 0.44252 -0.34861 0.4911 -0.40104 0.50151 C -0.41371 0.49595 -0.4184 0.49295 -0.42587 0.47814 C -0.43107 0.45686 -0.43194 0.43951 -0.43281 0.41684 C -0.43212 0.21814 -0.43264 0.01458 -0.42587 -0.18343 C -0.42361 -0.24728 -0.41371 -0.30974 -0.39635 -0.36849 C -0.38194 -0.41707 -0.38229 -0.43049 -0.35989 -0.47351 C -0.35208 -0.48832 -0.34166 -0.49988 -0.33385 -0.51422 C -0.31198 -0.55494 -0.29705 -0.59727 -0.26354 -0.62549 C -0.22778 -0.65556 -0.17708 -0.66875 -0.13646 -0.6773 C -0.02621 -0.70067 0.08768 -0.69118 0.19896 -0.69442 C 0.21493 -0.6935 0.28125 -0.69442 0.31059 -0.68355 C 0.34983 -0.66898 0.36042 -0.61115 0.37188 -0.56604 C 0.39011 -0.49456 0.40834 -0.42401 0.42361 -0.35137 C 0.44341 -0.25723 0.42222 -0.29655 0.46233 -0.24312 C 0.49011 -0.14157 0.51615 -0.0414 0.5342 0.06408 C 0.53577 0.0849 0.53611 0.0812 0.5342 0.10664 C 0.53403 0.10826 0.53195 0.11219 0.53299 0.11104 C 0.5415 0.10248 0.53785 0.09808 0.54479 0.08605 C 0.55712 0.06477 0.57031 0.04488 0.58351 0.02475 C 0.60261 -0.00416 0.61997 -0.03493 0.64011 -0.06269 C 0.68698 -0.12769 0.70486 -0.12931 0.72709 -0.21004 C 0.7283 -0.22045 0.73143 -0.23086 0.73073 -0.2415 C 0.72952 -0.25954 0.71771 -0.26139 0.70955 -0.27134 C 0.70035 -0.28244 0.69358 -0.29748 0.68351 -0.30719 C 0.67205 -0.31853 0.65018 -0.31853 0.63768 -0.31991 C 0.58264 -0.31737 0.51476 -0.32038 0.46233 -0.29007 C 0.44983 -0.2829 0.43802 -0.27319 0.42587 -0.26486 C 0.4165 -0.25838 0.41111 -0.2452 0.40365 -0.23525 C 0.38889 -0.21559 0.38108 -0.18876 0.37066 -0.1647 C 0.35226 -0.12237 0.36337 -0.15059 0.3507 -0.10039 C 0.34375 -0.07333 0.33472 -0.04719 0.32952 -0.01897 C 0.32656 -0.00347 0.32639 0.02475 0.31893 0.04072 C 0.31597 0.04696 0.31007 0.0502 0.30712 0.05621 C 0.29341 0.08536 0.28663 0.12006 0.26597 0.1425 C 0.24775 0.16239 0.22709 0.1691 0.20469 0.17558 C 0.14341 0.1728 0.09045 0.16563 0.03073 0.14897 C 0.02674 0.15059 0.02292 0.15499 0.01893 0.1536 C 0.00712 0.1499 -0.00208 0.13741 -0.01284 0.12977 C -0.01458 0.12214 -0.01684 0.11682 -0.01875 0.10942 C -0.01909 0.10572 -0.01962 0.10248 -0.01996 0.09878 C -0.02031 0.09554 -0.02118 0.08929 -0.02118 0.08929 E">
                                      <p:cBhvr>
                                        <p:cTn id="1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856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erican Eagle Dres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 3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 34.95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 4.55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1%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 Black"/>
              </a:rPr>
              <a:t>I divide the original price ($39.50) for the difference ( $4.55) and I found the percent (11%).</a:t>
            </a:r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59" name="" descr="AE Party Dress"/>
          <p:cNvPicPr/>
          <p:nvPr/>
        </p:nvPicPr>
        <p:blipFill>
          <a:blip r:embed="rId1"/>
          <a:stretch/>
        </p:blipFill>
        <p:spPr>
          <a:xfrm>
            <a:off x="5370480" y="3629160"/>
            <a:ext cx="188604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659E-006 C -0.06458 -0.31714 -0.12916 -0.63452 -0.13524 -0.74439 C -0.14132 -0.85427 -0.15746 -0.72034 -0.03646 -0.65973 C 0.08455 -0.59912 0.49097 -0.3907 0.59063 -0.38076 C 0.69028 -0.37081 0.59427 -0.58617 0.56129 -0.60005 C 0.5283 -0.61393 0.43906 -0.52071 0.39306 -0.4638 C 0.34705 -0.4069 0.31997 -0.30882 0.28472 -0.25839 C 0.24948 -0.20796 0.21927 -0.09323 0.18125 -0.16123 C 0.14323 -0.22924 0.02986 -0.57206 0.0566 -0.66621 C 0.08334 -0.75989 0.26389 -0.774 0.34132 -0.72543 C 0.41875 -0.67685 0.47969 -0.48878 0.52118 -0.37428 C 0.56268 -0.25978 0.60104 -0.10872 0.59063 -0.03887 C 0.58021 0.03099 0.53125 0.02567 0.45886 0.04418 C 0.38646 0.06245 0.21389 0.0879 0.1566 0.07217 C 0.09931 0.05667 0.10209 0.00185 0.11528 -0.04835 C 0.12847 -0.09855 0.2566 -0.16817 0.23542 -0.22855 C 0.21424 -0.28892 0.05018 -0.41476 -0.01163 -0.41037 C -0.07344 -0.40597 -0.10017 -0.27319 -0.13524 -0.20195 C -0.17031 -0.1307 -0.19583 -0.02059 -0.22222 0.01758 C -0.24861 0.05551 -0.29409 0.09276 -0.29409 0.02521 C -0.29409 -0.04233 -0.34045 -0.29725 -0.22222 -0.38862 C -0.10399 -0.47953 0.23542 -0.4948 0.41528 -0.52163 C 0.59514 -0.54846 0.88403 -0.53667 0.8566 -0.54985 C 0.82917 -0.56304 0.47639 -0.62457 0.2507 -0.60005 C 0.025 -0.57576 -0.53819 -0.50613 -0.49757 -0.40435 C -0.45694 -0.30211 0.4467 -0.15383 0.4941 0.01272 C 0.5415 0.17927 -0.09496 0.49872 -0.21284 0.59588 E">
                                      <p:cBhvr>
                                        <p:cTn id="27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ap Jea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7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4.99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34.5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43%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 Black"/>
              </a:rPr>
              <a:t>I divide the original price ($79.50) for the difference ($34.51) and I found the percent ($43%).</a:t>
            </a:r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02360" y="3981600"/>
            <a:ext cx="19238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2.44043E-006 C 0.07899 -0.0643 0.15729 -0.12699 0.23542 -0.19269 C 0.26111 -0.21443 0.28507 -0.24034 0.31076 -0.26162 C 0.35886 -0.30118 0.41007 -0.33287 0.45677 -0.37451 C 0.47361 -0.38954 0.48993 -0.4055 0.50747 -0.41984 C 0.52708 -0.43604 0.54809 -0.44876 0.56736 -0.46541 C 0.58542 -0.48114 0.60191 -0.49988 0.61927 -0.517 C 0.62656 -0.5244 0.63507 -0.53134 0.63906 -0.54221 C 0.64288 -0.55193 0.64375 -0.56743 0.6507 -0.57344 C 0.64028 -0.63312 0.57326 -0.66019 0.53559 -0.67222 C 0.51875 -0.67754 0.50208 -0.68031 0.4849 -0.68332 C 0.46233 -0.68725 0.43958 -0.69049 0.41684 -0.69257 C 0.3934 -0.69465 0.36962 -0.69465 0.34618 -0.69581 C 0.27899 -0.69419 0.21198 -0.6972 0.14497 -0.69118 C 0.12882 -0.6898 0.11372 -0.68008 0.09809 -0.67383 C 0.03247 -0.64723 -0.0408 -0.59889 -0.09045 -0.53273 C -0.14722 -0.45709 -0.20121 -0.3789 -0.25486 -0.29933 C -0.26979 -0.27758 -0.28854 -0.26 -0.30312 -0.23803 C -0.31198 -0.22461 -0.30885 -0.22739 -0.3184 -0.21929 C -0.32031 -0.21767 -0.32239 -0.21628 -0.3243 -0.21466 C -0.32552 -0.21374 -0.32795 -0.20957 -0.32795 -0.21142 C -0.32795 -0.21351 -0.32014 -0.22299 -0.31962 -0.22392 C -0.31701 -0.229 -0.3125 -0.23965 -0.3125 -0.23965 C -0.30364 -0.28198 -0.29913 -0.32685 -0.28559 -0.36664 C -0.28281 -0.37497 -0.27292 -0.37173 -0.26684 -0.37451 C -0.24635 -0.38353 -0.25156 -0.3833 -0.22795 -0.39024 C -0.16996 -0.40712 -0.11059 -0.41984 -0.05139 -0.42609 C -0.03854 -0.43303 -0.02604 -0.44113 -0.0125 -0.44668 C -0.00139 -0.4513 0.01076 -0.45038 0.02153 -0.45593 C 0.02622 -0.45847 0.0283 -0.46727 0.03333 -0.47004 C 0.04636 -0.47744 0.07448 -0.48577 0.07448 -0.48577 C 0.11649 -0.42355 0.15903 -0.36248 0.20035 -0.29933 C 0.22083 -0.26787 0.23368 -0.22646 0.2592 -0.20194 C 0.27847 -0.18343 0.29462 -0.16678 0.30972 -0.14249 C 0.31615 -0.13208 0.32205 -0.10802 0.33455 -0.10802 C 0.3691 -0.09345 0.40382 -0.0805 0.43785 -0.06407 C 0.44219 -0.06199 0.44549 -0.05274 0.44861 -0.04834 C 0.45538 -0.03863 0.46007 -0.03238 0.46858 -0.02521 C 0.47118 -0.0229 0.48125 -0.01665 0.48386 -0.01573 C 0.48715 -0.01411 0.49427 -0.01226 0.49427 -0.01226 L 0.49323 -0.40735 C 0.47066 -0.60305 0.50747 -0.55679 0.45677 -0.53782 C 0.45017 -0.53851 0.43681 -0.54059 0.43681 -0.54059 C 0.22431 -0.56581 0.20104 -0.60074 0.06736 -0.56442 C 0.05 -0.54846 0.00399 -0.56188 -0.0033 -0.56257 C -0.01024 -0.56442 -0.0243 -0.5672 -0.0243 -0.5672 L -0.31042 -0.70367 C -0.28611 -0.71732 -0.26233 -0.73305 -0.23733 -0.74439 C -0.23403 -0.74578 -0.22378 -0.73213 -0.22101 -0.73028 C -0.20625 -0.72056 -0.19097 -0.71293 -0.17517 -0.70668 C -0.15799 -0.69997 -0.14062 -0.6935 -0.12326 -0.68956 C -0.1158 -0.68795 -0.10104 -0.68494 -0.10104 -0.68494 L 0.68264 -0.30696 L 0.50504 0.02059 L 0.58247 0.26348 C 0.57118 0.27666 0.56163 0.29286 0.54844 0.3028 C 0.54636 0.30442 0.51754 0.30882 0.51094 0.30905 C 0.48698 0.30997 0.4632 0.30997 0.43924 0.31044 C 0.33576 0.30049 0.40347 0.31136 0.3592 0.29956 C 0.34861 0.29679 0.32743 0.2917 0.32743 0.2917 L 0.27205 0.25099 C 0.26823 0.21467 0.29045 -0.00878999999999999 0.22483 -0.07818 C 0.22379 -0.08142 0.22153 -0.08767 0.22153 -0.08767 C 0.16701 -0.10918 0.11424 -0.14272 0.05781 -0.15197 C 0.04844 -0.15359 0.0507 -0.12815 0.0474 -0.11589 C 0.04132 -0.09322 0.03559 -0.07009 0.02726 -0.04834 C 0.0125 -0.00948 -0.0026 0.02915 -0.02083 0.06593 C -0.02309 0.07056 -0.02604 0.07495 -0.02812 0.08004 C -0.03038 0.08582 -0.03229 0.09184 -0.03507 0.09739 C -0.03802 0.10387 -0.04201 0.10965 -0.04549 0.11589 C -0.04653 0.11798 -0.04913 0.12075 -0.04913 0.12075 C -0.06302 0.1263 -0.08819 0.13301 -0.1033 0.14273 C -0.11424 0.14111 -0.12517 0.14018 -0.13611 0.1381 C -0.1441 0.13648 -0.15191 0.13417 -0.15989 0.13186 C -0.16319 0.1307 -0.17031 0.12862 -0.17031 0.12862 L -0.23958 0.11589 C -0.26528 -0.06708 -0.45312 -0.4476 -0.31389 -0.43395 C -0.30937 -0.43349 -0.30538 -0.43511 -0.30087 -0.43557 C -0.29809 -0.43673 -0.29531 -0.43812 -0.29253 -0.43881 C -0.28837 -0.43974 -0.28385 -0.43881 -0.27986 -0.4402 C -0.275 -0.44182 -0.27135 -0.44598 -0.26684 -0.44807 C -0.25972 -0.4513 -0.24549 -0.45593 -0.24549 -0.45593 C -0.19549 -0.47744 -0.14635 -0.50497 -0.09496 -0.52047 C -0.0901 -0.52163 -0.08993 -0.5089 -0.08785 -0.50289 C -0.08524 -0.49572 -0.08316 -0.48832 -0.08073 -0.48114 C -0.0684 -0.44344 -0.0566 -0.40596 -0.0467 -0.36664 C -0.04583 -0.35507 -0.04323 -0.34374 -0.04323 -0.3324 C -0.04323 -0.30673 -0.04913 -0.28267 -0.04913 -0.25699 C -0.01302 -0.16331 -0.00712 -0.0495 0.07205 -0.02961 C 0.07587 -0.02752 0.08368 -0.02336 0.08368 -0.02336 C 0.13993 -0.000920000000000001 0.19636 0.02036 0.25191 0.04395 C 0.26458 0.04927 0.26997 0.06153 0.28142 0.06593 C 0.28368 0.08328 0.27899 0.09068 0.27326 0.10525 C 0.25955 0.13949 0.24201 0.15383 0.22257 0.18367 C 0.21267 0.19894 0.20538 0.21675 0.19549 0.23225 C 0.18767 0.24497 0.17795 0.25584 0.16962 0.26834 C 0.16059 0.28198 0.15156 0.2954 0.14392 0.31044 C 0.1408 0.31622 0.14028 0.32408 0.13663 0.3294 C 0.13108 0.33773 0.12344 0.34305 0.11684 0.34976 C 0.11441 0.35207 0.10972 0.35601 0.10972 0.35601 C 0.0934 0.34953 0.07691 0.34328 0.06042 0.33727 C 0.05608 0.33403 0.0474 0.32778 0.0474 0.32778 L -0.01493 0.16956 L 0.30504 -0.30557 C 0.31302 -0.32639 0.32795 -0.34466 0.32969 -0.36826 C 0.33038 -0.37705 0.31632 -0.37034 0.30972 -0.37127 C 0.28663 -0.37427 0.2632 -0.37497 0.24011 -0.37612 C 0.10382 -0.37034 -0.03281 -0.37705 -0.1691 -0.38376 C -0.20312 -0.38561 -0.2408 -0.38769 -0.275 -0.39024 C -0.28785 -0.39116 -0.31389 -0.39324 -0.31389 -0.39324 C -0.32465 -0.38584 -0.34115 -0.38584 -0.3467 -0.37127 C -0.34948 -0.36433 -0.3283 -0.33402 -0.3243 -0.32593 C -0.30382 -0.28452 -0.28333 -0.24728 -0.2526 -0.21767 C -0.24253 -0.20795 -0.23108 -0.20078 -0.22101 -0.19107 C -0.20937 -0.17996 -0.19948 -0.16585 -0.18785 -0.15498 C -0.15555 -0.12468 -0.12222 -0.09646 -0.08906 -0.06731 C -0.06788 -0.04857 -0.04687 -0.02937 -0.02552 -0.0111 C -0.00382 0.00787 0.01823 0.02568 0.04028 0.04395 C 0.06754 0.06662 0.12483 0.10525 0.12483 0.10525 L -0.01024 0.64909 E">
                                      <p:cBhvr>
                                        <p:cTn id="3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ap dres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59.9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24.99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34.9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58%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 Black"/>
              </a:rPr>
              <a:t>I divide the original price ($59.90) for the difference ($24.99) and I found the percent (58%).</a:t>
            </a:r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35480" y="3981600"/>
            <a:ext cx="1924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924 -0.30395 C 0.39375 -0.30766 0.39184 -0.30604 0.39514 -0.30858 L 0.49896 -0.34929 C 0.57136 -0.39324 0.67709 -0.38954 0.71511 -0.48253 C 0.72465 -0.50544 0.71563 -0.49225 0.72361 -0.50289 C 0.72483 -0.51353 0.72743 -0.52117 0.73056 -0.53111 C 0.73143 -0.53898 0.73212 -0.54684 0.73299 -0.55471 C 0.73334 -0.55841 0.7342 -0.56558 0.7342 -0.56558 L 0.71181 -0.61578 C 0.69827 -0.62665 0.68733 -0.64562 0.67188 -0.64862 C 0.61927 -0.65903 0.53108 -0.64562 0.47188 -0.644 C 0.42344 -0.64076 0.37535 -0.6359 0.32691 -0.63312 C 0.3158 -0.63127 0.30434 -0.63104 0.29306 -0.62827 C 0.27639 -0.6241 0.26025 -0.61207 0.24479 -0.60328 C 0.21597 -0.58686 0.18629 -0.56188 0.16719 -0.5281 C 0.14809 -0.49456 0.13611 -0.44807 0.12483 -0.41059 C 0.11997 -0.3944 0.1191 -0.37682 0.11511 -0.3604 C 0.11077 -0.31945 0.09809 -0.28406 0.08837 -0.24427 C 0.08525 -0.23201 0.08351 -0.21929 0.08108 -0.20657 C 0.08004 -0.1994 0.0809 -0.19107 0.07761 -0.18482 C 0.0757 -0.18043 0.07066 -0.18043 0.06719 -0.17835 C 0.06146 -0.14296 0.05747 -0.11844 0.02934 -0.10803 C 0.01372 -0.09507 -0.0092 -0.11312 -0.02135 -0.12838 C -0.0408 -0.15337 -0.04201 -0.16586 -0.05989 -0.20356 C -0.07535 -0.23618 -0.08819 -0.26833 -0.10243 -0.30234 C -0.10677 -0.31275 -0.11163 -0.32246 -0.11649 -0.33218 C -0.12135 -0.34166 -0.13177 -0.35878 -0.13177 -0.35878 C -0.11215 -0.40944 -0.0934 -0.46056 -0.07291 -0.51076 C -0.07187 -0.51376 -0.05729 -0.5244 -0.05521 -0.52649 C -0.03785 -0.54522 -0.01666 -0.55286 0.00347 -0.56396 C 0.02344 -0.5746 0.03768 -0.58825 0.05886 -0.59241 C 0.09514 -0.60537 0.13299 -0.62341 0.17066 -0.62688 C 0.19097 -0.62873 0.21146 -0.62896 0.2316 -0.62989 C 0.2375 -0.62965 0.29358 -0.62873 0.30955 -0.62202 C 0.3191 -0.61809 0.32761 -0.61092 0.33646 -0.6049 C 0.36146 -0.58755 0.3875 -0.56859 0.4059 -0.53898 C 0.42552 -0.50682 0.43976 -0.4668 0.45278 -0.42933 C 0.45417 -0.421 0.45417 -0.41198 0.4566 -0.40435 C 0.45834 -0.39857 0.4632 -0.39579 0.46476 -0.39001 C 0.46788 -0.37844 0.46632 -0.36502 0.46719 -0.35276 C 0.46511 -0.31575 0.46285 -0.27573 0.45538 -0.23965 C 0.45452 -0.21328 0.45174 -0.21166 0.4566 -0.19246 C 0.46233 -0.16886 0.48681 -0.14828 0.50243 -0.13764 C 0.55018 -0.10502 0.49462 -0.13972 0.54931 -0.10641 C 0.55886 -0.10062 0.56962 -0.09993 0.58004 -0.09692 C 0.6092 -0.08836 0.63837 -0.08443 0.66806 -0.08281 C 0.69636 -0.07934 0.71979 -0.08489 0.7342 -0.1189 C 0.73646 -0.13764 0.7375 -0.1566 0.74011 -0.17534 C 0.7382 -0.20888 0.73976 -0.24312 0.7342 -0.27573 C 0.72969 -0.30095 0.72084 -0.32454 0.71285 -0.34767 C 0.69653 -0.39463 0.67344 -0.44922 0.63177 -0.46056 C 0.60191 -0.44876 0.57552 -0.41545 0.554 -0.38723 C 0.53941 -0.36757 0.52292 -0.35577 0.51059 -0.33356 C 0.48281 -0.28476 0.50712 -0.32385 0.48108 -0.26926 C 0.46962 -0.24474 0.45695 -0.22137 0.44479 -0.19732 C 0.40781 -0.12422 0.44288 -0.18598 0.40955 -0.11427 C 0.40295 -0.10062 0.39479 -0.0886 0.38837 -0.07495 C 0.38299 -0.06338 0.37934 -0.05043 0.37413 -0.03886 C 0.36441 -0.01735 0.35382 0.0037 0.3434 0.02521 C 0.34011 0.03262 0.33854 0.04141 0.33542 0.04881 C 0.33281 0.05459 0.32882 0.05899 0.32587 0.06454 C 0.31771 0.07981 0.31285 0.09831 0.30243 0.1115 C 0.28386 0.13509 0.2658 0.15314 0.24132 0.16169 C 0.21111 0.15337 0.20191 0.1034 0.19063 0.0724 C 0.18542 0.05829 0.1783 0.04534 0.17275 0.03169 C 0.16233 0.00416 0.15261 -0.02383 0.14236 -0.05158 C 0.1375 -0.06431 0.13507 -0.07842 0.12934 -0.09068 C 0.1224 -0.10641 0.11215 -0.11936 0.10469 -0.13463 C 0.09306 -0.15799 0.08872 -0.18968 0.0717 -0.20657 C 0.06389 -0.21443 0.05573 -0.22184 0.04827 -0.23016 C 0.04011 -0.23895 0.02344 -0.2644 0.01181 -0.27411 C 0.00747 -0.29008 0.01476 -0.26532 0.00695 -0.28337 C 0.00573 -0.28661 0.00295 -0.30095 0.00243 -0.30395 C 0.00347 -0.32385 0.00243 -0.34397 0.0059 -0.3634 C 0.01615 -0.42031 0.06545 -0.45316 0.09896 -0.47953 C 0.15938 -0.52741 0.2224 -0.5783 0.29306 -0.59241 C 0.31111 -0.5901 0.33056 -0.59449 0.34705 -0.58455 C 0.37813 -0.56581 0.39705 -0.53088 0.41528 -0.49503 C 0.41997 -0.48577 0.42639 -0.47814 0.43073 -0.46842 C 0.4507 -0.4217 0.46129 -0.37405 0.47778 -0.3257 C 0.48368 -0.29031 0.48681 -0.25538 0.48941 -0.21929 C 0.4908 -0.13347 0.48577 -0.03007 0.52101 0.0458 C 0.53229 0.0694 0.54375 0.09369 0.56233 0.10849 C 0.5757 0.11913 0.59688 0.12353 0.61163 0.12561 C 0.64393 0.12399 0.69306 0.12977 0.7224 0.10063 C 0.73559 0.07379 0.74618 0.05552 0.754 0.02383 C 0.75504 0.01342 0.75972 0.00416 0.7599 -0.00601 C 0.76094 -0.03585 0.75868 -0.04811 0.75538 -0.07194 C 0.754 -0.20773 0.7467 -0.35299 0.75764 -0.4904 C 0.75868 -0.53181 0.76077 -0.56859 0.7566 -0.61115 C 0.75573 -0.6211 0.74584 -0.63636 0.74115 -0.644 C 0.74011 -0.64608 0.7375 -0.65024 0.7375 -0.65024 C 0.73403 -0.66273 0.7375 -0.65441 0.73056 -0.66273 C 0.71788 -0.67777 0.71476 -0.68101 0.69636 -0.68332 C 0.68177 -0.68055 0.67101 -0.66967 0.65643 -0.66597 C 0.63837 -0.65626 0.62327 -0.65371 0.60365 -0.65186 C 0.56771 -0.65279 0.47587 -0.65325 0.4283 -0.65973 C 0.40868 -0.6625 0.38386 -0.67314 0.36476 -0.68008 C 0.34636 -0.68702 0.32396 -0.69928 0.30712 -0.71131 C 0.30243 -0.71478 0.29896 -0.7208 0.2941 -0.72403 C 0.2717 -0.73884 0.24722 -0.74717 0.22344 -0.75688 C 0.21025 -0.76243 0.19844 -0.76937 0.18472 -0.77261 C 0.16563 -0.77192 0.14775 -0.774 0.12934 -0.76937 C 0.10538 -0.76336 0.08247 -0.7511 0.05886 -0.74277 C 0.04688 -0.73375 0.03455 -0.72889 0.0224 -0.7208 C 0.01406 -0.71524 0.00434 -0.7083 -0.00347 -0.70206 C -0.01111 -0.69604 -0.01701 -0.68841 -0.02482 -0.68332 C -0.0316 -0.67176 -0.03524 -0.66898 -0.04583 -0.66435 C -0.04982 -0.65903 -0.05469 -0.65556 -0.05868 -0.65024 C -0.06024 -0.64816 -0.06059 -0.64446 -0.06232 -0.64238 C -0.06892 -0.63451 -0.07778 -0.6278 -0.08489 -0.6204 C -0.08993 -0.61508 -0.08819 -0.61323 -0.0941 -0.60629 C -0.10521 -0.59311 -0.09531 -0.60976 -0.10486 -0.59727 C -0.11267 -0.58686 -0.10364 -0.59426 -0.11285 -0.58755 C -0.11423 -0.58061 -0.1158 -0.57483 -0.11892 -0.56882 C -0.12118 -0.55424 -0.12205 -0.53967 -0.12361 -0.52487 C -0.11944 -0.45061 -0.11041 -0.38145 -0.09774 -0.30858 C -0.09357 -0.28499 -0.08923 -0.26162 -0.08489 -0.23803 C -0.08229 -0.22507 -0.07778 -0.19894 -0.07778 -0.19894 C -0.07239 -0.13231 -0.05382 -0.06847 -0.03993 -0.00439 C -0.03455 0.02082 -0.02916 0.04465 -0.02135 0.06917 C -0.01805 0.07888 -0.01857 0.09045 -0.01406 0.09901 C -0.01562 0.11289 -0.01788 0.11913 -0.02812 0.1226 C -0.03594 0.13208 -0.0467 0.13648 -0.05399 0.14596 C -0.05989 0.1536 -0.06041 0.16031 -0.06944 0.16331 C -0.08264 0.18112 -0.10278 0.1802 -0.11996 0.1883 C -0.1342 0.18645 -0.14913 0.18529 -0.16111 0.17419 C -0.16423 0.16077 -0.16614 0.15013 -0.16823 0.13648 C -0.16007 0.1041 -0.15642 0.10224 -0.13403 0.08628 C -0.12847 0.08235 -0.12378 0.07495 -0.11771 0.0724 C -0.10764 0.06847 -0.09722 0.06917 -0.08698 0.06755 C -0.06701 0.06014 -0.04982 0.05367 -0.02934 0.05205 C -0.00868 0.05274 0.01042 0.05159 0.03073 0.05344 C 0.0908 0.06523 0.12292 0.12607 0.16233 0.18043 C 0.18056 0.20588 0.20087 0.226 0.2224 0.24636 C 0.25972 0.28198 0.30417 0.32339 0.35191 0.32778 C 0.36667 0.32547 0.39028 0.32547 0.4059 0.31529 C 0.45139 0.28591 0.48525 0.23896 0.5224 0.19315 C 0.54913 0.16031 0.57813 0.12029 0.60104 0.08166 C 0.61354 0.06061 0.62188 0.03169 0.63073 0.0081 C 0.63802 -0.01157 0.63802 -0.03516 0.64236 -0.05621 C 0.64063 -0.07888 0.63872 -0.1071 0.62587 -0.12514 C 0.60278 -0.15776 0.5658 -0.1876 0.5316 -0.19246 C 0.49167 -0.19153 0.46233 -0.19038 0.42483 -0.18159 C 0.39497 -0.16424 0.36285 -0.15198 0.3342 -0.13139 C 0.27118 -0.08582 0.2092 -0.02221 0.19514 0.07703 C 0.19601 0.0886 0.19566 0.10016 0.19757 0.1115 C 0.20226 0.13856 0.22483 0.15869 0.24132 0.17118 C 0.25104 0.17858 0.2599 0.18783 0.27066 0.19315 C 0.31493 0.21536 0.38247 0.20657 0.42344 0.20726 C 0.56788 0.20426 0.71215 0.19986 0.85643 0.19616 C 0.9224 0.19223 0.96406 0.18621 1.02709 0.1536 C 1.04584 0.13417 1.04861 0.11936 1.05417 0.08952 C 1.04514 0.00717 1.01754 -0.04372 0.98472 -0.10941 C 0.97379 -0.13116 0.96632 -0.15591 0.95278 -0.17534 C 0.90261 -0.24798 0.82604 -0.28753 0.7599 -0.32431 C 0.74861 -0.33079 0.73698 -0.33796 0.72465 -0.34166 C 0.68785 -0.3523 0.64757 -0.35577 0.60955 -0.3604 C 0.5559 -0.35716 0.50278 -0.35554 0.44948 -0.34767 C 0.39167 -0.32801 0.33837 -0.30766 0.2882 -0.26301 C 0.2842 -0.25584 0.28073 -0.24821 0.27639 -0.24127 C 0.27014 -0.23063 0.26094 -0.2223 0.25643 -0.20981 C 0.24879 -0.18714 0.25261 -0.19801 0.24479 -0.17696 C 0.24184 -0.1573 0.23906 -0.14249 0.24479 -0.12214 C 0.24913 -0.10641 0.2691 -0.10271 0.27882 -0.10155 C 0.30625 -0.10849 0.33525 -0.10872 0.36111 -0.12214 C 0.41997 -0.15198 0.47604 -0.18436 0.53073 -0.22716 C 0.56771 -0.2563 0.59983 -0.28337 0.62483 -0.33056 C 0.63802 -0.39602 0.59618 -0.44205 0.5566 -0.4668 C 0.50816 -0.49688 0.43785 -0.53666 0.38594 -0.53898 C 0.28525 -0.5436 0.33872 -0.54152 0.2257 -0.54522 C 0.07379 -0.54314 -0.07239 -0.53528 -0.22344 -0.51862 C -0.27969 -0.50497 -0.35989 -0.49503 -0.41059 -0.44969 C -0.41823 -0.44275 -0.41458 -0.42563 -0.41649 -0.4136 C -0.41614 -0.38792 -0.41771 -0.36248 -0.41528 -0.3368 C -0.4125 -0.30789 -0.37899 -0.28661 -0.36458 -0.27712 C -0.29097 -0.22878 -0.24149 -0.2297 -0.16111 -0.22554 C -0.12031 -0.22646 -0.07969 -0.22947 -0.03889 -0.22854 C -0.0276 -0.22831 -0.01701 -0.2216 -0.0059 -0.2223 C 0.01511 -0.22369 0.03577 -0.23063 0.0566 -0.23479 C 0.13542 -0.26717 0.21493 -0.30164 0.28715 -0.35554 C 0.34011 -0.39486 0.38438 -0.43257 0.41528 -0.50289 C 0.42049 -0.51469 0.42153 -0.52949 0.42483 -0.54222 C 0.42795 -0.57391 0.39809 -0.55424 0.37275 -0.55309 C 0.35764 -0.5517 0.34288 -0.5517 0.3283 -0.54522 C 0.325 -0.54383 0.32205 -0.54175 0.31893 -0.5406 C 0.31667 -0.53967 0.31181 -0.53898 0.31181 -0.53898 L 0.12691 0.61161 E">
                                      <p:cBhvr>
                                        <p:cTn id="50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much I spen with the discoun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bought an American Eagle Jeans for $ 29.95, a American Eagle dresses for $ 34.95, a Gap Jeans for $ 44.99 and a Gap dresses for $ 24.99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the discounts I spent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$ 134.88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much I spend with the original price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original price of the American Eagle Jeans was fo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$ 39.50, an American Eagle dresses for $ 39.50, a Gap Jeans for $ 79.50 and a Gap dresses for $ 59.90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the original price I spent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$ 218.40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savings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saved $ 83.52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saved 38% for my cloth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6:11:29Z</dcterms:modified>
  <cp:revision>4</cp:revision>
  <dc:subject/>
  <dc:title>Write a title here.</dc:title>
</cp:coreProperties>
</file>