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A68B-E305-435B-BCCE-9C456177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06CC-BF01-4472-8239-A281B5B3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E8DA-37F0-426A-86CD-04627850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CED3-A139-4AF2-A76B-D1A9E027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BD31-F40F-42DD-9821-E90FD3C2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18EA-43BC-432E-AE0A-95987CCF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E9FA-4F20-4869-9B1B-56BE25DE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F30C-FEBA-472F-B12E-5399E0B4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6B89-5176-4901-93CC-F0FA9EA8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37C8-A402-4616-959B-50150C04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F7A9-9452-4427-83B3-F86A25B7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3BE0-6FFD-40D0-82A3-5B16834C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4D7C-63B1-4386-BC77-6C08811A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B122-D812-4028-BC9A-09A26E7E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745A-DC6A-485D-AA8B-3CB900C2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86B9-09C4-4014-8DC9-00E25F99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24C8-FC15-4A46-B292-80DAF2A6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CF4F-03E0-4F9D-8803-21DAD037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97C8-C0A9-46D9-B9F5-5E04A84F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9855-440B-4E44-B11F-B9FB9870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918A-5642-4B4D-9BA3-07CEE038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054F-D096-4693-BD54-EF9B0063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BD8E-1786-41ED-9C61-0847DE7A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C8DF-B630-4A9C-93BD-47A4D04D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7EF8DC-70F9-42D6-B1F5-10BA1E91DDA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50157-DB82-4B7F-A0B6-7DA61A5A7CD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B7D1A5-E8EE-403F-8666-788D357AFEF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416CA0-0A36-4CDE-B368-7D4AC79A3D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oldnavy.gap.com/browse/product.do?cid=5205&amp;vid=1&amp;pid=796731&amp;scid=796731002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oldnavy.gap.com/browse/product.do?cid=61462&amp;vid=1&amp;pid=797835&amp;scid=797835012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oing Shopp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55840" y="3909600"/>
            <a:ext cx="622296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Verdana"/>
              </a:rPr>
              <a:t>TERRELL BOG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tem #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66640" y="1752480"/>
          <a:ext cx="8001000" cy="1479240"/>
        </p:xfrm>
        <a:graphic>
          <a:graphicData uri="http://schemas.openxmlformats.org/drawingml/2006/table">
            <a:tbl>
              <a:tblPr/>
              <a:tblGrid>
                <a:gridCol w="2000160"/>
                <a:gridCol w="2000160"/>
                <a:gridCol w="2000160"/>
                <a:gridCol w="2000520"/>
              </a:tblGrid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.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1.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Box 4"/>
          <p:cNvSpPr/>
          <p:nvPr/>
        </p:nvSpPr>
        <p:spPr>
          <a:xfrm>
            <a:off x="457200" y="3927600"/>
            <a:ext cx="353700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I found the percent of change by divi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the new price by old price. 41 / 49 = 0.8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452920" y="3324240"/>
            <a:ext cx="247680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tem #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66640" y="1752480"/>
          <a:ext cx="8001000" cy="1479240"/>
        </p:xfrm>
        <a:graphic>
          <a:graphicData uri="http://schemas.openxmlformats.org/drawingml/2006/table">
            <a:tbl>
              <a:tblPr/>
              <a:tblGrid>
                <a:gridCol w="2000160"/>
                <a:gridCol w="2000160"/>
                <a:gridCol w="2000160"/>
                <a:gridCol w="2000520"/>
              </a:tblGrid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.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.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Box 4"/>
          <p:cNvSpPr/>
          <p:nvPr/>
        </p:nvSpPr>
        <p:spPr>
          <a:xfrm>
            <a:off x="457200" y="3981600"/>
            <a:ext cx="34052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found the percent of change by divi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w price by old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49960" y="3575160"/>
            <a:ext cx="192384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tem #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66640" y="1752480"/>
          <a:ext cx="8001000" cy="1479240"/>
        </p:xfrm>
        <a:graphic>
          <a:graphicData uri="http://schemas.openxmlformats.org/drawingml/2006/table">
            <a:tbl>
              <a:tblPr/>
              <a:tblGrid>
                <a:gridCol w="2000160"/>
                <a:gridCol w="2000160"/>
                <a:gridCol w="2000160"/>
                <a:gridCol w="2000520"/>
              </a:tblGrid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.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.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found the percent of change by divi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w price by old pr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11960" y="3692520"/>
            <a:ext cx="1923840" cy="23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tem #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66640" y="1752480"/>
          <a:ext cx="8001000" cy="1479240"/>
        </p:xfrm>
        <a:graphic>
          <a:graphicData uri="http://schemas.openxmlformats.org/drawingml/2006/table">
            <a:tbl>
              <a:tblPr/>
              <a:tblGrid>
                <a:gridCol w="2000160"/>
                <a:gridCol w="2000160"/>
                <a:gridCol w="2000160"/>
                <a:gridCol w="2000520"/>
              </a:tblGrid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.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.9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.5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found the percent of change by divi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w price by old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067360" y="3429000"/>
            <a:ext cx="2476440" cy="25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ow much did you spend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rite complete sentences to describe your purchases (I bought  ___________  for $_______...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rite a sentence to state your tot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riginal Pri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rite complete sentences to describe the original prices (The original price of____________  was $_______...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rite a sentence to state the total of original pric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y savings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rite a sentence telling how much you save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rite a sentence stating the percent of chang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9T20:47:15Z</dcterms:modified>
  <cp:revision>12</cp:revision>
  <dc:subject/>
  <dc:title>Write a title here.</dc:title>
</cp:coreProperties>
</file>