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715-450D-4F95-9CBA-4C2D847D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E78C-B86A-40E7-9C82-E6A5F8BA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89BE-719D-4A6C-A02A-8FF644F4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AC4F-08E2-47A7-98CB-4F794119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2646-8D80-4928-BF23-28F5A384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AD9B-F67C-4159-89A9-A122C251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5F51-1225-48A4-AFAC-771C0FA0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5C36-A610-43DE-9BCD-2432C0DC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D34C-87D9-461A-B0DC-5CD030BC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B8F4-0512-4FB9-8AE6-61C6D93C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04A9-402F-4812-9CA4-5DADBB3D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165-77A3-4EE1-BC0E-E9DFC94C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7F01-4AEF-4F9B-948B-DA6903FB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CE10-BC1A-4630-91E9-0B7D7FC4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EB6E-30DE-45DE-8F9B-65081389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EA2F-B388-46B9-A3BD-2169D52F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BD37-F054-45E2-BA09-664AD681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094-2D02-4B48-A7C2-9ADB0309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C0CA-E1BC-42A1-BF9D-514A7870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52C-B3A7-4F84-AACE-2097CFBF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7A1-715A-4707-9C20-ECD43BAF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4C83-127E-4B00-8B48-2EA14DA7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18D8-2F0E-4486-91B0-311B07E5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266-F0A0-4DD0-BDE8-63CB7752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55827-4529-4323-83E0-DF2282DBE52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5403E-504E-46CC-BE4E-B585A37F37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77422-CEEC-4FDC-B207-1D56FA1D252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30253-7F4D-4A1E-83D0-A651286A91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oldnavy.gap.com/browse/product.do?cid=5205&amp;vid=1&amp;pid=796731&amp;scid=796731002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oldnavy.gap.com/browse/product.do?cid=61462&amp;vid=1&amp;pid=797835&amp;scid=797835012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ing Shopp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55840" y="3909600"/>
            <a:ext cx="622296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Verdana"/>
              </a:rPr>
              <a:t>TERRELL BOG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tem #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66640" y="1752480"/>
          <a:ext cx="8001000" cy="147924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160"/>
                <a:gridCol w="200052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Box 4"/>
          <p:cNvSpPr/>
          <p:nvPr/>
        </p:nvSpPr>
        <p:spPr>
          <a:xfrm>
            <a:off x="457200" y="3927600"/>
            <a:ext cx="353700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 found the percent of change by divi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he new price by old price. 41 / 49 = 0.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52920" y="3324240"/>
            <a:ext cx="247680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tem #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66640" y="1752480"/>
          <a:ext cx="8001000" cy="147924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160"/>
                <a:gridCol w="200052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.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.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Box 4"/>
          <p:cNvSpPr/>
          <p:nvPr/>
        </p:nvSpPr>
        <p:spPr>
          <a:xfrm>
            <a:off x="457200" y="3981600"/>
            <a:ext cx="34052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found the percent of change by divi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 price by old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49960" y="3575160"/>
            <a:ext cx="192384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tem #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66640" y="1752480"/>
          <a:ext cx="8001000" cy="147924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160"/>
                <a:gridCol w="200052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.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.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found the percent of change by divi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 price by old pr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11960" y="3692520"/>
            <a:ext cx="192384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tem #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66640" y="1752480"/>
          <a:ext cx="8001000" cy="147924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160"/>
                <a:gridCol w="200052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.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.9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.5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Box 4"/>
          <p:cNvSpPr/>
          <p:nvPr/>
        </p:nvSpPr>
        <p:spPr>
          <a:xfrm>
            <a:off x="457200" y="3981600"/>
            <a:ext cx="2612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found the percent of change by divi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 price by old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67360" y="3429000"/>
            <a:ext cx="2476440" cy="25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w much did you spen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rite complete sentences to describe your purchases (I bought  ___________  for $_______...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rite a sentence to state your tot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riginal Pri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rite complete sentences to describe the original prices (The original price of____________  was $_______...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rite a sentence to state the total of original pric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y savings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rite a sentence telling how much you sav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rite a sentence stating the percent of chang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9T20:47:15Z</dcterms:modified>
  <cp:revision>12</cp:revision>
  <dc:subject/>
  <dc:title>Write a title here.</dc:title>
</cp:coreProperties>
</file>