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BE8A-FF3C-47D0-AB11-816AAE52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62C1-BF72-46B6-AD4C-1A4F0174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6CB0-549A-43B1-9E7B-82240002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5D9D-CA1A-474B-A73F-1D57BDE2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8601-6238-4972-BF33-4C7BDE7D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C2AE-8990-434E-A61C-85D24B3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A8F0-991B-48B9-BF22-B30B455B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CEBC-0DA0-48B6-872A-B85F5D1C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E3C0-6770-46CB-AF5F-9005C91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16F3-9053-4562-8B23-652189E0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F403-9590-4BF5-ACDD-920B05EC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FDEA-0B45-4DE4-B1DD-DED8A68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19C-1835-4BBE-95AE-5E26F42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D218-2F8E-4FD9-BCF6-A1B7140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04CD-2180-4649-8536-3532D163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15C8-8543-4FDE-AE7F-F58CB956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C11-C611-4AFA-B0E0-1C045FFF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81A1-0A41-41E7-9167-78F47EAB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0FA2-8789-4F40-86CB-FB98040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1A00-8485-4CA1-8901-60E6438F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DC87-8FA5-40A8-8A98-5AC76CEA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C9B8-CC45-41CB-B7A7-992A4CCF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F759-E180-42C8-AD44-663A3B6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82E4-66C9-4E73-950F-8B97BBD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F641D-4758-4493-A334-8F4A759D85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83432-E2B5-4CA6-A877-2E93DDC93CA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23586-F832-4668-8B1C-4BD2582024A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1981D-088B-46B6-895E-A8D0FAEE4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1&amp;pid=77086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8&amp;vid=1&amp;pid=74946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1&amp;pid=77200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0&amp;pid=35561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hopping saving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55560" y="4060440"/>
            <a:ext cx="545148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98989"/>
                </a:solidFill>
                <a:latin typeface="Arial"/>
              </a:rPr>
              <a:t>Abla Lydia dabla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1red jacke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28.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6.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457200" y="484668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128.00 minus 96.00 equal 32 then 32 divided128.00 equal 0.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7908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2 blue jacke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69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4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69.50 minus 44.99 equal 24.51 then 24.51 divided 69.50 equal 0.3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05400" y="33526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3 white shir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4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24.50 minus 9.99 equal 14.51 then 14.51 divided 24.51 equal 0.5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2200" y="343044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em #4 pink shir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76520" y="1981080"/>
          <a:ext cx="7010280" cy="1473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9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2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000066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19.50 minus 12.99 equal 6.51 then 6.51 divided 19.50 equal 0.3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548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much did you spend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ought a red jacket for 96.00,  a blue jacket for 44.99, a white shirt for 9.99, and a pink shirt for 12.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o state your to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dded 96.00 plus 44.99 plus 9.99 plus 12.99 equal 163.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ought a red jacket for $128.00,a  blue jacket for $69.50,a white shirt for $24.50,and a pink shirt for $19.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o state the total of original pr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dded $128.00 plus 69.50 plus $24.50 plus $19.50 equal$ 241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Buddhist design template"/>
          <p:cNvPicPr/>
          <p:nvPr/>
        </p:nvPicPr>
        <p:blipFill>
          <a:blip r:embed="rId1"/>
          <a:stretch/>
        </p:blipFill>
        <p:spPr>
          <a:xfrm>
            <a:off x="2124000" y="7196040"/>
            <a:ext cx="5238720" cy="39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y savings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telling how much you save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aved $77.53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sentence stating the percent of chang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cent of change is 0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6:01Z</dcterms:modified>
  <cp:revision>10</cp:revision>
  <dc:subject/>
  <dc:title>Write a title here.</dc:title>
</cp:coreProperties>
</file>