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13EB9-5396-4F7C-A514-880A2C44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7E616-592C-410F-9E87-4B9965CC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6A6DE-83CE-4CF8-B8BD-A2E165B5D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D1C57-C80D-48DB-8B51-8A278D75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E1C5-7E5D-43F1-892B-19ABBDB3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9740-F914-4F5B-8E71-6FFBFB58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46CC-4130-44F7-8E97-565795F9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3F39-78C6-415F-9152-B907CEF9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6C47-A30E-4B60-9991-C803AE22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B994-B8B0-4548-B9FF-40E4B633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9CFF-80D3-4437-84E6-AAF4CA30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731A8-CD2E-46C4-B55E-D71ECD07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5A18-5053-4001-BD67-B88BEF3B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746C-80B5-4774-8543-64F23CC2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62AB-FC0F-4CB7-83FB-B4636020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65AF-F917-4667-957F-3E9377356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7D89-704C-436F-AAC0-BB878AA13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80627-6D2B-4324-9DB5-327FD55C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31899-8BB7-4382-8F7A-643351DC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32A38-91A5-4F56-A9FC-CC8FE96E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0C058-5C39-4E53-86F8-E126D1FB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D87EF-8F79-44E5-9DE6-1914EA5B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0AF45-8BA1-44C8-83B6-5846F0DE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60EBF-3E0A-4119-8408-43750FCC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10BA8-79CE-49EA-87C3-B70AED0B9A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35ED54-A7BB-48DD-9D3F-902C6F2AE45B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C26C8-A199-4036-8FEA-859FEE7557AA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CEDD8A-8E8A-4EF4-A80B-A4FEBEED6D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677&amp;vid=1&amp;pid=77086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678&amp;vid=1&amp;pid=749462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680&amp;vid=1&amp;pid=772008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680&amp;vid=0&amp;pid=355618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Shopping saving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455560" y="4060440"/>
            <a:ext cx="545148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98989"/>
                </a:solidFill>
                <a:latin typeface="Arial"/>
              </a:rPr>
              <a:t>Abla Lydia dabla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tem #1red jacke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676520" y="1981080"/>
          <a:ext cx="7010280" cy="147312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  <a:gridCol w="1752840"/>
                <a:gridCol w="175248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28.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96.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Box 4"/>
          <p:cNvSpPr/>
          <p:nvPr/>
        </p:nvSpPr>
        <p:spPr>
          <a:xfrm>
            <a:off x="457200" y="4846680"/>
            <a:ext cx="2612880" cy="2288520"/>
          </a:xfrm>
          <a:prstGeom prst="rect">
            <a:avLst/>
          </a:prstGeom>
          <a:solidFill>
            <a:srgbClr val="000066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I did 128.00 minus 96.00 equal 32 then 32 divided128.00 equal 0.2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3790800"/>
            <a:ext cx="1923840" cy="2571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tem #2 blue jacke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676520" y="1981080"/>
          <a:ext cx="7010280" cy="147312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  <a:gridCol w="1752840"/>
                <a:gridCol w="175248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69.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44.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.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000066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I did 69.50 minus 44.99 equal 24.51 then 24.51 divided 69.50 equal 0.36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05400" y="335268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tem #3 white shir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676520" y="1981080"/>
          <a:ext cx="7010280" cy="147312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  <a:gridCol w="1752840"/>
                <a:gridCol w="175248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24.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9.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000066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I did 24.50 minus 9.99 equal 14.51 then 14.51 divided 24.51 equal 0.51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72200" y="3430440"/>
            <a:ext cx="1923840" cy="2571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tem #4 pink shir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676520" y="1981080"/>
          <a:ext cx="7010280" cy="147312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  <a:gridCol w="1752840"/>
                <a:gridCol w="175248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9.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2.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TextBox 4"/>
          <p:cNvSpPr/>
          <p:nvPr/>
        </p:nvSpPr>
        <p:spPr>
          <a:xfrm>
            <a:off x="457200" y="3981600"/>
            <a:ext cx="2612880" cy="1922760"/>
          </a:xfrm>
          <a:prstGeom prst="rect">
            <a:avLst/>
          </a:prstGeom>
          <a:solidFill>
            <a:srgbClr val="000066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I did 19.50 minus 12.99 equal 6.51 then 6.51 divided 19.50 equal 0.34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35480" y="343044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ow much did you spend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bought a red jacket for 96.00,  a blue jacket for 44.99, a white shirt for 9.99, and a pink shirt for 12.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a sentence to state your tot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dded 96.00 plus 44.99 plus 9.99 plus 12.99 equal 163.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Original Pric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bought a red jacket for $128.00,a  blue jacket for $69.50,a white shirt for $24.50,and a pink shirt for $19.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a sentence to state the total of original pr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dded $128.00 plus 69.50 plus $24.50 plus $19.50 equal$ 241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Buddhist design template"/>
          <p:cNvPicPr/>
          <p:nvPr/>
        </p:nvPicPr>
        <p:blipFill>
          <a:blip r:embed="rId1"/>
          <a:stretch/>
        </p:blipFill>
        <p:spPr>
          <a:xfrm>
            <a:off x="2124000" y="7196040"/>
            <a:ext cx="5238720" cy="3924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My savings!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a sentence telling how much you saved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saved $77.53 doll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a sentence stating the percent of change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rcent of change is 0.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9T20:56:01Z</dcterms:modified>
  <cp:revision>10</cp:revision>
  <dc:subject/>
  <dc:title>Write a title here.</dc:title>
</cp:coreProperties>
</file>