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3EEF-9C36-4D4A-A566-A7EDD43A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AEDD-8333-4E7B-8F97-524B945A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E01D-EE2F-4107-B014-AC68F71F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4C5F-5A20-471E-BF91-9CB0B666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94AB-ED6A-47FD-8E6E-263ABF57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4B3D-CD03-433F-A424-C477034C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3F1E-2D94-429F-82C0-230EB2B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F127-1B37-4CD9-ACB7-ADE41F2E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E0B1-2999-4B8C-A4DF-04DEE380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88E4-3361-41F4-8E8A-0A950BDD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5626-0912-4864-913C-5D1B1FA9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A1DD-90A5-4053-8434-E915DC5B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D32F-2CA1-4EA6-94E6-05FC278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788-980A-4C6F-85BD-DF6FFBF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535E-E5C6-4101-8A90-E03B7E47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E6F6-0DE9-435B-8803-E3F15E68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63BF-2341-4F0A-B9A3-4920EF93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4FE0-DF15-4307-928F-2BE65E82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A96B-B5ED-4D83-99F8-7C10D894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8E4A-783A-487E-856A-27E26C5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4CCF-7AA4-4933-8584-28AD55B4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9CB8-21E6-4E46-A89D-95410A3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D511-BA02-4B7C-9202-0C0D868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B436-0674-4D81-84DB-7871A5C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80A90-7DB5-47AB-A5A5-79DB6DA8C5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C2DAE-F758-4627-9A3D-E94CAC566A1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48041-FF4E-4801-A4E6-192638B1616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0B51A-E90F-4F92-990F-710E7F150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1&amp;pid=77086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8&amp;vid=1&amp;pid=74946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1&amp;pid=77200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0&amp;pid=35561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hopping saving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55560" y="4060440"/>
            <a:ext cx="545148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98989"/>
                </a:solidFill>
                <a:latin typeface="Arial"/>
              </a:rPr>
              <a:t>Abla Lydia dabla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1red jacke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28.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6.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457200" y="484668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128.00 minus 96.00 equal 32 then 32 divided128.00 equal 0.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7908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2 blue jacke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69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4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69.50 minus 44.99 equal 24.51 then 24.51 divided 69.50 equal 0.3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05400" y="33526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3 white shir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4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24.50 minus 9.99 equal 14.51 then 14.51 divided 24.51 equal 0.5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2200" y="343044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4 pink shir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9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2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19.50 minus 12.99 equal 6.51 then 6.51 divided 19.50 equal 0.3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548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much did you spend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ought a red jacket for 96.00,  a blue jacket for 44.99, a white shirt for 9.99, and a pink shirt for 12.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o state your to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dded 96.00 plus 44.99 plus 9.99 plus 12.99 equal 163.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ought a red jacket for $128.00,a  blue jacket for $69.50,a white shirt for $24.50,and a pink shirt for $19.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o state the total of original pr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dded $128.00 plus 69.50 plus $24.50 plus $19.50 equal$ 241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Buddhist design template"/>
          <p:cNvPicPr/>
          <p:nvPr/>
        </p:nvPicPr>
        <p:blipFill>
          <a:blip r:embed="rId1"/>
          <a:stretch/>
        </p:blipFill>
        <p:spPr>
          <a:xfrm>
            <a:off x="2124000" y="7196040"/>
            <a:ext cx="5238720" cy="39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y savings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elling how much you save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aved $77.53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stating the percent of chang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cent of change is 0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6:01Z</dcterms:modified>
  <cp:revision>10</cp:revision>
  <dc:subject/>
  <dc:title>Write a title here.</dc:title>
</cp:coreProperties>
</file>