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07AD-8145-4133-AD41-1DA6DFE28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A7FA-C287-4763-9E80-6FCABA10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8A77-B146-4D66-A8C4-22CE55A2E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0891-251D-45DB-8C60-5CEB20901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18BC-7CBC-48E5-B517-E9F45F3F9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9282-42BD-47ED-AA72-A068C1E6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4199-9B7E-4313-83B8-CC011370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96B6-A113-4E05-9F99-DDFA08E6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DE2C-E4E3-4ECE-8DA9-43C924DB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598E-7387-4A27-87A0-740D6037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FB1C-7DDB-44B6-A3C4-0F659EF8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A944-E69A-48AD-8763-35261C23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01DF-DA05-4FBA-8F8F-7CF185FB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589F-855D-4326-A385-718E3ED6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3E10-E581-4A9D-9518-83B69F2A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819B-EE57-4BFF-80EA-B847D6A8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70D4-E9C4-4E16-A579-5B0AB09F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C0D3-8DB5-483C-816C-5439CAA7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9691-57A8-4CEE-BFA7-EC6BD011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9D40-2B6D-4E18-83D5-B303CDAC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06A4-3354-485F-8D3B-184D35A5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8980-9AA0-4FEE-A165-D8D0C7B8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D1DC-A38D-4499-BB1E-7893C805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D55D-3196-411D-B8C7-16E77A7A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Calibri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Calibri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Calibri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BFC017-5B23-41FF-B908-9DAFD4BFAC52}" type="datetime">
              <a:rPr b="0" lang="en-US" sz="1400" spc="-1" strike="noStrike">
                <a:solidFill>
                  <a:srgbClr val="ffcc00"/>
                </a:solidFill>
                <a:latin typeface="Arial Black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C05E81-1E60-4D1E-AD93-873E70217C3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Calibri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DE5F5E-6F80-4263-9D84-CE2518FB9BE6}" type="datetime">
              <a:rPr b="0" lang="en-US" sz="1400" spc="-1" strike="noStrike">
                <a:solidFill>
                  <a:srgbClr val="ffcc00"/>
                </a:solidFill>
                <a:latin typeface="Arial Black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3ED4A4-41A1-4F18-B4A7-7067E64FAB5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41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aren’s Shopping spreeeeeeeeeeeeee!!!!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549440" y="4597200"/>
            <a:ext cx="604512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 Black"/>
              </a:rPr>
              <a:t>Caren Vaugh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tem #1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685800" y="1981080"/>
          <a:ext cx="7772400" cy="139824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59.5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24.99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34.51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0.58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3" name="TextBox 4"/>
          <p:cNvSpPr/>
          <p:nvPr/>
        </p:nvSpPr>
        <p:spPr>
          <a:xfrm>
            <a:off x="457200" y="4145040"/>
            <a:ext cx="3556080" cy="228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Unicode MS"/>
              </a:rPr>
              <a:t>I divide the difference, $34.51, and the original price, $59.50, and got my answer, to be 0.58.</a:t>
            </a:r>
            <a:endParaRPr b="0" lang="en-US" sz="2400" spc="-1" strike="noStrike">
              <a:solidFill>
                <a:srgbClr val="ffcc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cc00"/>
              </a:solidFill>
              <a:latin typeface="Calibri"/>
            </a:endParaRPr>
          </a:p>
        </p:txBody>
      </p:sp>
      <p:sp>
        <p:nvSpPr>
          <p:cNvPr id="354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Calibri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5049720" y="3560760"/>
            <a:ext cx="247644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tem #2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685800" y="1981080"/>
          <a:ext cx="7772400" cy="139824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$49.5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$44.95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$4.55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0.09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TextBox 4"/>
          <p:cNvSpPr/>
          <p:nvPr/>
        </p:nvSpPr>
        <p:spPr>
          <a:xfrm>
            <a:off x="457200" y="3981600"/>
            <a:ext cx="3286080" cy="1922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Unicode MS"/>
              </a:rPr>
              <a:t>I divide the difference, $4.55 and original price, $49.50 and got my answer to be 0.09.</a:t>
            </a:r>
            <a:endParaRPr b="0" lang="en-US" sz="2400" spc="-1" strike="noStrike">
              <a:solidFill>
                <a:srgbClr val="ffcc00"/>
              </a:solidFill>
              <a:latin typeface="Calibri"/>
            </a:endParaRPr>
          </a:p>
        </p:txBody>
      </p:sp>
      <p:sp>
        <p:nvSpPr>
          <p:cNvPr id="359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Calibri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264280" y="3765600"/>
            <a:ext cx="2130120" cy="289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tem #3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685800" y="1981080"/>
          <a:ext cx="7772400" cy="139824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$49.5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$49.5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0.0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0.0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00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Unicode MS"/>
              </a:rPr>
              <a:t>I divide 0.00 and $49.50(original price) and it equals to 0.00.</a:t>
            </a:r>
            <a:endParaRPr b="0" lang="en-US" sz="2400" spc="-1" strike="noStrike">
              <a:solidFill>
                <a:srgbClr val="ffcc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cc00"/>
              </a:solidFill>
              <a:latin typeface="Calibri"/>
            </a:endParaRPr>
          </a:p>
        </p:txBody>
      </p:sp>
      <p:sp>
        <p:nvSpPr>
          <p:cNvPr id="364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Calibri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4572000" y="3789360"/>
            <a:ext cx="291636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tem #4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685800" y="1981080"/>
          <a:ext cx="7772400" cy="139824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$15.5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$15.5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0.0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0.0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00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Unicode MS"/>
              </a:rPr>
              <a:t>I divide the original prince, $15.50,and the difference 0.00 and the I got 0.00.</a:t>
            </a:r>
            <a:endParaRPr b="0" lang="en-US" sz="2400" spc="-1" strike="noStrike">
              <a:solidFill>
                <a:srgbClr val="ffcc00"/>
              </a:solidFill>
              <a:latin typeface="Calibri"/>
            </a:endParaRPr>
          </a:p>
        </p:txBody>
      </p:sp>
      <p:sp>
        <p:nvSpPr>
          <p:cNvPr id="369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Calibri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5319720" y="4148280"/>
            <a:ext cx="198288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much did you spend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"/>
          <p:cNvSpPr/>
          <p:nvPr/>
        </p:nvSpPr>
        <p:spPr>
          <a:xfrm>
            <a:off x="893880" y="340992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 went to American Eagle and I bought a beautiful black dress. It is called a AE Ruffle party dress that cost $49.50, but the dress was on sale for $44.95. </a:t>
            </a:r>
            <a:endParaRPr b="0" lang="en-US" sz="2400" spc="-1" strike="noStrike">
              <a:solidFill>
                <a:srgbClr val="ffcc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riginal Pric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original price of AE Ruffle Party Dress was $49.50… but it was on sale for $44.95. so the right prince is $44.95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y savings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 saved $34.51 on a blouse.  When I bought a black dress I saved $4.55.  I saved nothing on ripped jeans that cost $49.50 and then I bought a 2 ring that’s says peace. I saved nothing.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y total savings is $4.55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9T20:58:45Z</dcterms:modified>
  <cp:revision>10</cp:revision>
  <dc:subject/>
  <dc:title>Write a title here.</dc:title>
</cp:coreProperties>
</file>