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3D1E-BAFD-43CE-B1BA-03EA4A8E6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4418-6F48-416F-9EA8-4461F8DD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B6D4-EE83-408C-A89E-9B67CB00B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2E63-4CFF-4042-A869-CBDA776D7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E9A3-BDEC-43E1-9422-A6BCDFA7B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07A0-7292-4056-9308-9FD5816F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8B57-3AE3-4A1F-B7DA-278B0E81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C0F7-BE7E-4492-A791-469CF20B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D771-C638-4E4E-A82C-8E0CCCDE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F397-CCA6-4212-A4F4-629906BE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177A-CA1B-42AC-9571-2A5EF6C5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F0BE-B339-466B-BF84-150C20DA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B200-1D10-4F49-AA81-4F4ABE7A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7AAB-5F37-4489-A4D5-1F30CE12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AB9A-3379-4CE5-8A43-C983C897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4708-3EF8-4087-A8C5-82BD5B6A7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8019-B862-4DE0-B5EE-C66CC76F6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EE67-2B79-4C1E-BCE6-124C9102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A6C8-0C64-4A86-BB26-CF70371E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F2F9-9E28-4CBF-A956-EEB48B31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E07E-4707-42A7-83D5-4CAF9EF8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C547-C893-49B3-A1D4-27BF6E9F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6159-4F85-4B84-94A6-5F3181D7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A8E1-7700-4A70-B4D6-02FF70EB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Calibri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Calibri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Calibri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1751B6-F85A-4D7D-AF6A-8AE01D2AFB00}" type="datetime">
              <a:rPr b="0" lang="en-US" sz="1400" spc="-1" strike="noStrike">
                <a:solidFill>
                  <a:srgbClr val="ffcc00"/>
                </a:solidFill>
                <a:latin typeface="Arial Black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3493D8-0840-48A9-9C92-C82A5544E18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4D0D49-5F00-4E15-B7D6-6CCC614DC8B0}" type="datetime">
              <a:rPr b="0" lang="en-US" sz="1400" spc="-1" strike="noStrike">
                <a:solidFill>
                  <a:srgbClr val="ffcc00"/>
                </a:solidFill>
                <a:latin typeface="Arial Black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72FFEA-5C75-471A-A3AB-C50B4CA59D8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41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aren’s Shopping spreeeeeeeeeeeeee!!!!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549440" y="4597200"/>
            <a:ext cx="604512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 Black"/>
              </a:rPr>
              <a:t>Caren Vaugh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tem #1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685800" y="1981080"/>
          <a:ext cx="7772400" cy="139824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59.5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24.99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34.51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0.58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3" name="TextBox 4"/>
          <p:cNvSpPr/>
          <p:nvPr/>
        </p:nvSpPr>
        <p:spPr>
          <a:xfrm>
            <a:off x="457200" y="4145040"/>
            <a:ext cx="3556080" cy="228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Unicode MS"/>
              </a:rPr>
              <a:t>I divide the difference, $34.51, and the original price, $59.50, and got my answer, to be 0.58.</a:t>
            </a:r>
            <a:endParaRPr b="0" lang="en-US" sz="2400" spc="-1" strike="noStrike">
              <a:solidFill>
                <a:srgbClr val="ffcc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cc00"/>
              </a:solidFill>
              <a:latin typeface="Calibri"/>
            </a:endParaRPr>
          </a:p>
        </p:txBody>
      </p:sp>
      <p:sp>
        <p:nvSpPr>
          <p:cNvPr id="354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Calibri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5049720" y="3560760"/>
            <a:ext cx="247644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tem #2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685800" y="1981080"/>
          <a:ext cx="7772400" cy="139824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$49.5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$44.95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$4.55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0.09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TextBox 4"/>
          <p:cNvSpPr/>
          <p:nvPr/>
        </p:nvSpPr>
        <p:spPr>
          <a:xfrm>
            <a:off x="457200" y="3981600"/>
            <a:ext cx="3286080" cy="1922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Unicode MS"/>
              </a:rPr>
              <a:t>I divide the difference, $4.55 and original price, $49.50 and got my answer to be 0.09.</a:t>
            </a:r>
            <a:endParaRPr b="0" lang="en-US" sz="2400" spc="-1" strike="noStrike">
              <a:solidFill>
                <a:srgbClr val="ffcc00"/>
              </a:solidFill>
              <a:latin typeface="Calibri"/>
            </a:endParaRPr>
          </a:p>
        </p:txBody>
      </p:sp>
      <p:sp>
        <p:nvSpPr>
          <p:cNvPr id="359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Calibri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264280" y="3765600"/>
            <a:ext cx="2130120" cy="289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tem #3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685800" y="1981080"/>
          <a:ext cx="7772400" cy="139824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$49.5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$49.5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0.0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0.0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00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Unicode MS"/>
              </a:rPr>
              <a:t>I divide 0.00 and $49.50(original price) and it equals to 0.00.</a:t>
            </a:r>
            <a:endParaRPr b="0" lang="en-US" sz="2400" spc="-1" strike="noStrike">
              <a:solidFill>
                <a:srgbClr val="ffcc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cc00"/>
              </a:solidFill>
              <a:latin typeface="Calibri"/>
            </a:endParaRPr>
          </a:p>
        </p:txBody>
      </p:sp>
      <p:sp>
        <p:nvSpPr>
          <p:cNvPr id="364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Calibri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4572000" y="3789360"/>
            <a:ext cx="291636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tem #4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685800" y="1981080"/>
          <a:ext cx="7772400" cy="139824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$15.5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$15.5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0.0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0.0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00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Unicode MS"/>
              </a:rPr>
              <a:t>I divide the original prince, $15.50,and the difference 0.00 and the I got 0.00.</a:t>
            </a:r>
            <a:endParaRPr b="0" lang="en-US" sz="2400" spc="-1" strike="noStrike">
              <a:solidFill>
                <a:srgbClr val="ffcc00"/>
              </a:solidFill>
              <a:latin typeface="Calibri"/>
            </a:endParaRPr>
          </a:p>
        </p:txBody>
      </p:sp>
      <p:sp>
        <p:nvSpPr>
          <p:cNvPr id="369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Calibri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5319720" y="4148280"/>
            <a:ext cx="198288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much did you spend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"/>
          <p:cNvSpPr/>
          <p:nvPr/>
        </p:nvSpPr>
        <p:spPr>
          <a:xfrm>
            <a:off x="893880" y="340992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 went to American Eagle and I bought a beautiful black dress. It is called a AE Ruffle party dress that cost $49.50, but the dress was on sale for $44.95. </a:t>
            </a:r>
            <a:endParaRPr b="0" lang="en-US" sz="2400" spc="-1" strike="noStrike">
              <a:solidFill>
                <a:srgbClr val="ffcc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riginal Pric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original price of AE Ruffle Party Dress was $49.50… but it was on sale for $44.95. so the right prince is $44.95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y savings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 saved $34.51 on a blouse.  When I bought a black dress I saved $4.55.  I saved nothing on ripped jeans that cost $49.50 and then I bought a 2 ring that’s says peace. I saved nothing.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y total savings is $4.55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9T20:58:45Z</dcterms:modified>
  <cp:revision>10</cp:revision>
  <dc:subject/>
  <dc:title>Write a title here.</dc:title>
</cp:coreProperties>
</file>