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D47-249B-4F32-BD3B-0346F0BA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562-222C-44E7-809D-36BBE2E3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A69-0EEB-4A2E-A834-1ADDABAD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A6F-7165-4BB1-A906-AEBDEC02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4E5-7DF3-4232-A105-3921D861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525B-2E5A-4ED0-9AA8-2F0FC5AA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7BC3-457F-424A-89A0-0DCA0235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480F-1DA5-4C84-90A4-B494DBC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74A3-F4D3-4CDD-B6CE-D13139F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9D4D-2672-4BB0-B76F-6E22739B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787-EE25-4E1F-A40C-2E74DF5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775-D431-4D5D-9E81-21AE0B4F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70A1-703B-4554-AFC7-3326B5CB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478C-11B7-4517-8B18-F2EF475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99F-5192-4834-B2B8-5CB1CE42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A9FB-502A-4812-950E-B624CC47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DEA9-8E14-456C-A659-1B5FC490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13A-8398-4B5A-817F-987EC9F3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724-27B9-47FD-ABD5-C537EA39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98C-A9DE-421B-B69D-17C0AF32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BDD-6B17-4BC7-9187-17EABDEA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BD9-460D-44E1-8A4F-D9F7318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D09-2BEC-4F6C-ABDC-079F3BA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55A-8472-4671-89B6-953C857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B9EFD-D4CC-43F3-9997-0762869AB891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43DE5-C8B8-4C6A-A556-867C420E6D9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14F69-F3AF-4325-90E4-5F096B9594BE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B1065-F3C3-4267-BF89-9E410A58C73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ren’s Shopping spreeeeeeeeeeeeee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5972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 Black"/>
              </a:rPr>
              <a:t>Caren Vaugh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34.5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58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Box 4"/>
          <p:cNvSpPr/>
          <p:nvPr/>
        </p:nvSpPr>
        <p:spPr>
          <a:xfrm>
            <a:off x="457200" y="4145040"/>
            <a:ext cx="355608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difference, $34.51, and the original price, $59.50, and got my answer, to be 0.58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049720" y="3560760"/>
            <a:ext cx="24764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4.9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.5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Box 4"/>
          <p:cNvSpPr/>
          <p:nvPr/>
        </p:nvSpPr>
        <p:spPr>
          <a:xfrm>
            <a:off x="457200" y="3981600"/>
            <a:ext cx="328608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difference, $4.55 and original price, $49.50 and got my answer to be 0.09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64280" y="3765600"/>
            <a:ext cx="2130120" cy="28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0.00 and $49.50(original price) and it equals to 0.00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916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15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15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original prince, $15.50,and the difference 0.00 and the I got 0.00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319720" y="4148280"/>
            <a:ext cx="19828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uch did you spen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/>
          <p:nvPr/>
        </p:nvSpPr>
        <p:spPr>
          <a:xfrm>
            <a:off x="893880" y="340992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 went to American Eagle and I bought a beautiful black dress. It is called a AE Ruffle party dress that cost $49.50, but the dress was on sale for $44.95. 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iginal Pr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riginal price of AE Ruffle Party Dress was $49.50… but it was on sale for $44.95. so the right prince is $44.95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saved $34.51 on a blouse.  When I bought a black dress I saved $4.55.  I saved nothing on ripped jeans that cost $49.50 and then I bought a 2 ring that’s says peace. I saved nothing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total savings is $4.55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8:45Z</dcterms:modified>
  <cp:revision>10</cp:revision>
  <dc:subject/>
  <dc:title>Write a title here.</dc:title>
</cp:coreProperties>
</file>