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32B0-DB2E-4A8D-B09D-67EFDD8AB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FC13-5DEC-49A9-8513-3077012C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E498-1E25-4605-9E65-63EF2C577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3563-0EF6-43D7-B9FF-BA8A1F87B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D805-790F-4806-A465-F3EBB6396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0561-F6D7-4F83-BA5A-D7C04772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DD9F-D28F-463D-8012-76A5636D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B010-5EBE-4E7A-97A3-CF3155E9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28E0-7941-4433-BAFE-C357FE3B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3D35-A84A-49B3-8B8F-A08D7C1E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2DCC-14A9-4B2D-A946-28E2B27B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186F-8E78-43AE-9DE9-F3CD08D2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CEC8-C795-4EF8-8E86-FAA9F5A6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9064-5047-4CD2-80E9-E06AF925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0947-1D34-4BB8-94AE-5A75E0D1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4E6C-C855-4B06-B39F-98F0498BA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53EF-992E-4336-80EC-4A10B51D5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2904-75B3-4D7E-8226-1709270C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DC6A-D81E-44F7-922B-396A301B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433B-23FD-434B-9534-7531CFAA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9A98-EC19-4D77-B119-1B8C848F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DC24-E58C-4C64-B3FD-4E02B1B2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8817-C188-4E7B-9CAE-99449E67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8A21-8147-4D7F-8C5D-CE924467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995998-E38C-45A6-82F5-5F72918DD740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94B2B0-FB28-4B97-85EB-C45EAE880E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CD7601-AA03-4DB4-8AA5-85399D6E042E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E5D1F1-1FE5-405C-AE26-AA740D6B77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278&amp;vid=2&amp;pid=750452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281&amp;vid=1&amp;pid=768696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282&amp;vid=1&amp;pid=768735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41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harlie in the mall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8989"/>
                </a:solidFill>
                <a:latin typeface="Arial"/>
              </a:rPr>
              <a:t>Charlie ramirez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tem #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57200" y="1600200"/>
          <a:ext cx="8229240" cy="15393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00009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First I subtract and that gave me 14.51,then I divided by 44.50 and that gave me 33%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9200" y="3670200"/>
            <a:ext cx="19242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tem #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600200"/>
          <a:ext cx="8229240" cy="15393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00009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First I subtract and that gave me 16.6,then I divide by 49.50 and that gave me 34%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TextBox 4"/>
          <p:cNvSpPr/>
          <p:nvPr/>
        </p:nvSpPr>
        <p:spPr>
          <a:xfrm flipV="1">
            <a:off x="5064120" y="4610160"/>
            <a:ext cx="2612880" cy="482400"/>
          </a:xfrm>
          <a:prstGeom prst="rect">
            <a:avLst/>
          </a:prstGeom>
          <a:solidFill>
            <a:srgbClr val="00009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23000" y="3564000"/>
            <a:ext cx="19238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tem #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7200" y="1600200"/>
          <a:ext cx="8229240" cy="15393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00009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First I subtract and that gave me 3.51,then I divide by 19.50 and that gave me 18%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5064120" y="4133880"/>
            <a:ext cx="2612880" cy="482400"/>
          </a:xfrm>
          <a:prstGeom prst="rect">
            <a:avLst/>
          </a:prstGeom>
          <a:solidFill>
            <a:srgbClr val="00009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05200" y="3430440"/>
            <a:ext cx="19242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tem #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1600200"/>
          <a:ext cx="8229240" cy="15393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TextBox 4"/>
          <p:cNvSpPr/>
          <p:nvPr/>
        </p:nvSpPr>
        <p:spPr>
          <a:xfrm>
            <a:off x="457200" y="3981600"/>
            <a:ext cx="2612880" cy="1739880"/>
          </a:xfrm>
          <a:prstGeom prst="rect">
            <a:avLst/>
          </a:prstGeom>
          <a:solidFill>
            <a:srgbClr val="00009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rst I subtract and that gave me 39.50,then I divide by 31.99 and that gave me 19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TextBox 4"/>
          <p:cNvSpPr/>
          <p:nvPr/>
        </p:nvSpPr>
        <p:spPr>
          <a:xfrm>
            <a:off x="5064120" y="4133880"/>
            <a:ext cx="2612880" cy="1557000"/>
          </a:xfrm>
          <a:prstGeom prst="rect">
            <a:avLst/>
          </a:prstGeom>
          <a:solidFill>
            <a:srgbClr val="00009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Copy a picture of your item her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Delete this box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much did you spen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complete sentences to describe your purchases (I bought  ____________  for $_______.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 sentence to state your tot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iginal Pri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complete sentences to describe the original prices (The original price of____________  was $_______.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 sentence to state the total of original pr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y saving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 sentence telling how much you sa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 sentence stating the percent of chan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4T16:27:41Z</dcterms:modified>
  <cp:revision>5</cp:revision>
  <dc:subject/>
  <dc:title>Write a title here.</dc:title>
</cp:coreProperties>
</file>