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DA8-E441-478B-A949-F10D4899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EE4-134B-4C50-9CFE-18F95DFF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2B4-5F98-4E65-98F9-2A32AB9A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B2E-D459-4271-8884-81A63397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F873-F52C-4D5C-9D6B-2FFA17C5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BD3A-3A2A-4D87-A893-64E49F92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668-24B1-41B5-BE74-F01A77D5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298B-AB98-4625-98CA-8B7A2FF5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9F66-276B-4D81-ACE7-C151961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7FC4-B191-49BC-B381-3178C9A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9E1A-73A2-40EC-AE7D-BD8D0D4B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673-B8FD-497E-97F1-DAA7D5D9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C7AD-D319-40AA-855D-F26C983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48BB-C8A1-47DD-9C8C-7A075CE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7D71-F4C2-4CEC-9239-A28169EF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C7EA-8729-47AB-B5E4-4843D057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18A6-CDB4-467F-BFD4-6F83557F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319-12E8-4340-AECC-270192A8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762-3998-4FEE-9B32-C5A8B7DC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C22-2F4C-4F7B-81FF-2F46D2E0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A6E-D272-4612-B0E8-84498798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11A-2739-489F-B3A6-BFF6A408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1DD-5E3F-4C61-93D8-85075D8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B84-C8FA-437C-B52F-458247C0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E250C-D9BB-4973-B1AF-03A20775857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FC13A-DC6A-48D1-9CF6-2EC4D7B98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23411-48EC-4DFA-ADA4-3630F746A60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1636F-BA57-42E7-A9C7-F08BD20E7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8&amp;vid=2&amp;pid=75045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1&amp;vid=1&amp;pid=76869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2&amp;vid=1&amp;pid=76873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rlie in the m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Arial"/>
              </a:rPr>
              <a:t>Charlie ramire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 and that gave me 14.51,then I divided by 44.50 and that gave me 33%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9200" y="36702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 and that gave me 16.6,then I divide by 49.50 and that gave me 3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4"/>
          <p:cNvSpPr/>
          <p:nvPr/>
        </p:nvSpPr>
        <p:spPr>
          <a:xfrm flipV="1">
            <a:off x="5064120" y="4610160"/>
            <a:ext cx="2612880" cy="482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3000" y="35640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 and that gave me 3.51,then I divide by 19.50 and that gave me 18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064120" y="4133880"/>
            <a:ext cx="2612880" cy="482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 I subtract and that gave me 39.50,then I divide by 31.99 and that gave me 19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7:41Z</dcterms:modified>
  <cp:revision>5</cp:revision>
  <dc:subject/>
  <dc:title>Write a title here.</dc:title>
</cp:coreProperties>
</file>