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0A3A-932F-4C59-BD48-5DC84089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B0E6-ACB0-49F7-A89D-89987DC6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6ED8-6A67-44AB-B825-21FC96A8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FF20-6A6F-47C6-AFF9-886F557D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38C4-1C9F-44B3-BB4E-B128B8E1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ADBF-6922-4E74-8CA0-D8860E3D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4F56-95C3-4F3C-882C-854BD2E9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E3B0-6613-49C4-AF9E-56072062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78A8-421D-44F4-A6C3-3B3F7CDB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5C7E-6C08-494D-AB3E-C6DB68FB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78A9-347B-423C-BDB7-793AA936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4709-62F7-496C-B084-9669FC3C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B0BE-85B8-408F-82F1-BFF660FA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E520-94B9-4A0F-8127-E8F40886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63B0-9FF8-4E51-97C3-4A55314D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4C2B-1EFF-430E-977D-006A6026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83C7-ED73-4A4E-AED5-B6B049CF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864A-7C36-43B5-9CA1-0AD4CCA8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65AC-A3C7-4571-8E56-A5D228E1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CBC6-17BE-49A2-9EDC-C2B7A90B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06DE-657F-4235-9405-15744099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DFA3-7540-4959-8E9F-C353E1D7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6157-8E2A-42EB-93CC-DB5F1825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8EEE-3895-49C0-8093-A8CA0995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D0B6AF-E61F-4809-8A9A-AD8612EBDF4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16B427-3889-46AA-92C4-38524C655A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C6A4B-A6EA-4500-8D4E-CEB6CB6A545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630F77-5AD7-4989-BE7C-DC75D9BF91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hristelle  shopping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764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imes New Roman"/>
              </a:rPr>
              <a:t>christel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tem #1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600200"/>
          <a:ext cx="8229240" cy="1510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040"/>
                <a:gridCol w="2057400"/>
              </a:tblGrid>
              <a:tr h="7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4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39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9933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)I subtracted the original price(49.50) with the new price(39.99) and the answer is 9.51.               2)I divided the difference(9.51) with the original price(49.50) and the answer is 19%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768920" y="3403440"/>
            <a:ext cx="247644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tem #2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600200"/>
          <a:ext cx="8229240" cy="1510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040"/>
                <a:gridCol w="2057400"/>
              </a:tblGrid>
              <a:tr h="7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7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29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629400" y="3618000"/>
            <a:ext cx="1924200" cy="2571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9933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)I subtracted the original price($79.50) with the new price($29.99) and the answer is 49.51.            2)I divided the difference(49.51) with the original price($79.50) and the answer 62%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tem #3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229240" cy="1510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040"/>
                <a:gridCol w="2057400"/>
              </a:tblGrid>
              <a:tr h="7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2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14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4"/>
          <p:cNvSpPr/>
          <p:nvPr/>
        </p:nvSpPr>
        <p:spPr>
          <a:xfrm>
            <a:off x="457200" y="3981600"/>
            <a:ext cx="2612880" cy="2014200"/>
          </a:xfrm>
          <a:prstGeom prst="rect">
            <a:avLst/>
          </a:prstGeom>
          <a:solidFill>
            <a:srgbClr val="9933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)I subtracted the original price($29.50) with the new price($14.99) and the answer is 14.51.            2) I divided the difference(14.51) with the original price(29.50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42040" y="3618000"/>
            <a:ext cx="1923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tem #4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00200"/>
          <a:ext cx="8229240" cy="1510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040"/>
                <a:gridCol w="2057400"/>
              </a:tblGrid>
              <a:tr h="7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9933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a sentence here about how you found the percent of chang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ow much did you spend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complete sentences to describe your purchases (I bought  ____________  for $_______.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a sentence to state your tot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riginal Pri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complete sentences to describe the original prices (The original price of____________  was $_______.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a sentence to state the total of original pri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y savings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a sentence telling how much you sav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a sentence stating the percent of ch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4T16:26:35Z</dcterms:modified>
  <cp:revision>5</cp:revision>
  <dc:subject/>
  <dc:title>Write a title here.</dc:title>
</cp:coreProperties>
</file>