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945-38C9-420A-BAD7-EB0815E8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431-7FB5-464A-8AE6-BED540EE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F9F-FD64-4C3E-9E19-0C802A4E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C90-F0A7-41A1-AE92-768E725C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D0E8-D23B-4969-B25A-2263F10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86F-A38D-40C1-9E4B-FBBF9F7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F63-F221-49C9-B14F-3F0CF9E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9AE-91B0-4C7E-A3D2-557905D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BCB-BD79-4DEF-86DB-321F4311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A3F-E7BE-4B72-BD58-D89E7F68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437-1799-4412-A27D-163B6EA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81-4EEB-4D77-A910-E15F763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8E5-D647-48B4-8FAB-2BEB52E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79C-53ED-4FA5-8C61-3A0762D8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F89-C64B-4AD2-ADAA-2F07A562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E0D6-FF9E-44A5-A02E-3F3AFA0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0C2C-6EFF-40F3-B0E0-099ACD56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C77-FF5F-477F-A477-13926779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FAC-0C28-4FE5-9200-ED913D2C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57B-38AE-4B6C-B876-20E3FC4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BFF-3175-4273-80E3-ED491BB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432-A222-4B9A-9251-0F4559D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856-144D-4D28-BBE0-E7FCC52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888-2C7A-4A04-BB89-5121CC04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A441C-CDA6-4EF9-A1C3-31503FF15EA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8088D-72E1-41D8-B2F2-D184D547A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D129-4D03-4075-AB71-5AED7B34228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7F47E-B8E7-4EB3-B41A-94BB19F27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ristelle  shoppin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imes New Roman"/>
              </a:rPr>
              <a:t>christe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3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49.50) with the new price(39.99) and the answer is 9.51.               2)I divided the difference(9.51) with the original price(49.50) and the answer is 19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68920" y="3403440"/>
            <a:ext cx="24764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9400" y="3618000"/>
            <a:ext cx="192420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$79.50) with the new price($29.99) and the answer is 49.51.            2)I divided the difference(49.51) with the original price($79.50) and the answer 62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I subtracted the original price($29.50) with the new price($14.99) and the answer is 14.51.            2) I divided the difference(14.51) with the original price(29.5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42040" y="36180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240" cy="151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040"/>
                <a:gridCol w="2057400"/>
              </a:tblGrid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iginal Pri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savings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6:35Z</dcterms:modified>
  <cp:revision>5</cp:revision>
  <dc:subject/>
  <dc:title>Write a title here.</dc:title>
</cp:coreProperties>
</file>