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E07F-23BD-4DC7-BF6E-0CE9D8438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D563-A589-4FD9-ACEF-9EE2E1F4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4368-62BF-48B9-B1BA-8FEBE94C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AA08-0A11-4271-B189-A386E8EB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F898-B410-4B0A-8421-CC2B3337A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710D-AABE-4142-B318-A6F5E819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A009-F609-4CF1-8C36-23377AA7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5B9C-DDF1-480F-9C3F-5CB0B48E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D4ED-36C8-4E62-BBB8-BB4E3949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C03F-A88D-4F77-9EAE-05F31A59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618F-F581-4244-9D80-7AAAEED8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8CDC-163C-44F7-B69D-16C7372B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C76F-63F1-4788-B4B3-BBB30B85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3F63-21B3-4836-A89C-8EF768E0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0179-500B-4D73-913E-8F12CB7F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BA4F-3189-437B-89EE-48511600E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D18E-ABB5-4B1D-BC59-E04088F7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046C-7968-45EB-ACA6-3EDCD9C3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D506-FDB4-42D9-8579-E9E1DAE8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9D07-03A1-4874-98E4-20E09B80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4F00-CBC7-45D4-9216-4C370422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81DB-A174-4BB3-81FD-AB4A3E01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DD54-6E34-4AE1-AB1F-86ECE2B1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3B1E-158C-486E-AD2C-C3C51754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5CF980-19CB-4D2F-8091-8AF2DA9C2889}" type="datetime">
              <a:rPr b="0" lang="en-US" sz="1000" spc="-1" strike="noStrike">
                <a:solidFill>
                  <a:srgbClr val="2f1311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5B93D8-3D48-4316-BADE-D611A437305D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59F5B7-7D7F-4EBD-A4E0-5A79F30BA4CF}" type="datetime">
              <a:rPr b="0" lang="en-US" sz="1000" spc="-1" strike="noStrike">
                <a:solidFill>
                  <a:srgbClr val="2f1311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F3C963-BD49-44F3-B0B2-73D552E0FCC3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430246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4285574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4461605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4322206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My favorite close to wear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083960" y="3870360"/>
            <a:ext cx="5745240" cy="17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Daniela Gomez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tem #1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63520" y="1598760"/>
          <a:ext cx="7386480" cy="1559880"/>
        </p:xfrm>
        <a:graphic>
          <a:graphicData uri="http://schemas.openxmlformats.org/drawingml/2006/table">
            <a:tbl>
              <a:tblPr/>
              <a:tblGrid>
                <a:gridCol w="1846440"/>
                <a:gridCol w="1846800"/>
                <a:gridCol w="1846440"/>
                <a:gridCol w="1846800"/>
              </a:tblGrid>
              <a:tr h="81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$29.50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$12.99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6.51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0.56 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56%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TextBox 4"/>
          <p:cNvSpPr/>
          <p:nvPr/>
        </p:nvSpPr>
        <p:spPr>
          <a:xfrm>
            <a:off x="843120" y="3400560"/>
            <a:ext cx="2612880" cy="2562840"/>
          </a:xfrm>
          <a:prstGeom prst="rect">
            <a:avLst/>
          </a:prstGeom>
          <a:solidFill>
            <a:srgbClr val="c1605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first look for the first price that my polo had. Then I look for the new price that it has now. Then I divide them and give me what is the difference, and I use my 2 price to find the percent of change.</a:t>
            </a: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  <p:pic>
        <p:nvPicPr>
          <p:cNvPr id="197" name="" descr="1987 Graphic Jersey Polo - Aéropostale®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97400" y="3400560"/>
            <a:ext cx="2712960" cy="31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tem #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63520" y="1598760"/>
          <a:ext cx="7386480" cy="1868040"/>
        </p:xfrm>
        <a:graphic>
          <a:graphicData uri="http://schemas.openxmlformats.org/drawingml/2006/table">
            <a:tbl>
              <a:tblPr/>
              <a:tblGrid>
                <a:gridCol w="1846440"/>
                <a:gridCol w="1846800"/>
                <a:gridCol w="1846440"/>
                <a:gridCol w="1846800"/>
              </a:tblGrid>
              <a:tr h="81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$29.50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$19.99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9.51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0.32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TextBox 4"/>
          <p:cNvSpPr/>
          <p:nvPr/>
        </p:nvSpPr>
        <p:spPr>
          <a:xfrm>
            <a:off x="457200" y="3981600"/>
            <a:ext cx="2612880" cy="1465560"/>
          </a:xfrm>
          <a:prstGeom prst="rect">
            <a:avLst/>
          </a:prstGeom>
          <a:solidFill>
            <a:srgbClr val="c1605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I did was? I  decrease $29.50 with $19.99  and  give me 9.51 which my percent of changes is 32%</a:t>
            </a: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  <p:pic>
        <p:nvPicPr>
          <p:cNvPr id="202" name="" descr="Blocked Logo Graphic Tote - Aéropostale®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8880" y="3630600"/>
            <a:ext cx="2422440" cy="282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tem #3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63520" y="1598760"/>
          <a:ext cx="7386480" cy="1559880"/>
        </p:xfrm>
        <a:graphic>
          <a:graphicData uri="http://schemas.openxmlformats.org/drawingml/2006/table">
            <a:tbl>
              <a:tblPr/>
              <a:tblGrid>
                <a:gridCol w="1846440"/>
                <a:gridCol w="1846800"/>
                <a:gridCol w="1846440"/>
                <a:gridCol w="1846800"/>
              </a:tblGrid>
              <a:tr h="81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$19.50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$16.99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.51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0.13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3%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TextBox 4"/>
          <p:cNvSpPr/>
          <p:nvPr/>
        </p:nvSpPr>
        <p:spPr>
          <a:xfrm>
            <a:off x="457200" y="3548160"/>
            <a:ext cx="4491000" cy="2014200"/>
          </a:xfrm>
          <a:prstGeom prst="rect">
            <a:avLst/>
          </a:prstGeom>
          <a:solidFill>
            <a:srgbClr val="c1605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 I bought a sunglasses</a:t>
            </a: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t the originate price was $19.50,but I didn’t buy it because I didn’t have the money to buy but I return to the mall and was on a special price that was when I bought the sunglasses and the price was on $16.99 so I bought because I save $2.51 from my money.</a:t>
            </a: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  <p:pic>
        <p:nvPicPr>
          <p:cNvPr id="206" name="" descr="Solid Fashion Sunglasses - Aéropostale®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2400" y="3583080"/>
            <a:ext cx="2217600" cy="20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tem #4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63520" y="1598760"/>
          <a:ext cx="7386480" cy="1559880"/>
        </p:xfrm>
        <a:graphic>
          <a:graphicData uri="http://schemas.openxmlformats.org/drawingml/2006/table">
            <a:tbl>
              <a:tblPr/>
              <a:tblGrid>
                <a:gridCol w="1846440"/>
                <a:gridCol w="1846800"/>
                <a:gridCol w="1846440"/>
                <a:gridCol w="1846800"/>
              </a:tblGrid>
              <a:tr h="81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$24.50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$16.99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7.51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0.30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TextBox 4"/>
          <p:cNvSpPr/>
          <p:nvPr/>
        </p:nvSpPr>
        <p:spPr>
          <a:xfrm>
            <a:off x="457200" y="3981600"/>
            <a:ext cx="2612880" cy="1465560"/>
          </a:xfrm>
          <a:prstGeom prst="rect">
            <a:avLst/>
          </a:prstGeom>
          <a:solidFill>
            <a:srgbClr val="c1605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,I bought these shoes for $16.99 and I was impressive because the originate was very expensive .</a:t>
            </a: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  <p:pic>
        <p:nvPicPr>
          <p:cNvPr id="211" name="" descr="Fur-Lined Scuff Clog - Aéropostale®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97400" y="3741840"/>
            <a:ext cx="2469960" cy="28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How much did you spend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 bought a shirt for $12.99.  I bought a bag for $19.99.  I bought  sunglasses for $16.99.  I bought  footwear for $16.99. I spent $66.96 out of $150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Original Pric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originate price of my shirt was $29.50. The originate price of my bag was $29.50. The originate price of my sunglasses was $19.50. The originate price of my footwear was $24.50. The total of the originate prices was $103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y savings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 saved about $83.04, now  i can go and buy more. But that is my savings for shopping. I am going to buy more with that money the next week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y percent of my shopping is 81%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0-28T17:57:14Z</dcterms:modified>
  <cp:revision>4</cp:revision>
  <dc:subject/>
  <dc:title>Write a title here.</dc:title>
</cp:coreProperties>
</file>