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806-93FE-475B-B3B0-CA90B605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543-55A4-458E-8150-22A156B6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AD3-594D-4A14-BCF8-3416CCA9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6AE-22D9-4E75-A7BB-045AEE29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1602-8F67-4AB2-87AB-76201962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7532-496F-42E9-BA72-5D332B1B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F6CD-36C5-4068-A358-68B7F152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E48A-AB2A-47DA-9768-98FB40A7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137F-E44B-466D-9D43-C133CEB2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8B8E-BBF1-4885-9F76-D74120E8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5AD6-5F57-49C0-93A8-A358964F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5CA-9833-418D-90AC-3BCE232D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C8E0-6A69-443F-A921-86F82409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C0FC-476C-4155-84CA-D276079B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A3E6-C849-46ED-96DF-B98A66AB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3407-C54A-40C7-BCE6-9FC0691B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E95C-800F-457F-9A21-0B6FBFB7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6AF-44C9-4F7D-BEE1-4E3267B8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600-998B-476A-8F85-8EFE2CBB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675-8230-48B9-AEA8-0BBB77D9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2D1-3185-46BF-82F5-61F7863A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374-1121-48A0-AAD8-AB78277C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ECA-973A-48F3-87B4-8D46B005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E7D-AEC3-4800-8236-0223931E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3DFB2-3D80-40E7-92AF-A40E8ACEA094}" type="datetime">
              <a:rPr b="0" lang="en-US" sz="1000" spc="-1" strike="noStrike">
                <a:solidFill>
                  <a:srgbClr val="2f131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66A7E-98FF-4EE5-ABEE-39C566D7690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6A673-BBD7-4797-B007-A3C637673FAF}" type="datetime">
              <a:rPr b="0" lang="en-US" sz="1000" spc="-1" strike="noStrike">
                <a:solidFill>
                  <a:srgbClr val="2f131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69166-0B08-4586-BA53-3F2AC1F6C1A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30246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2855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461605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322206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y favorite close to wea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083960" y="3870360"/>
            <a:ext cx="574524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Daniela Gomez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tem #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63520" y="1598760"/>
          <a:ext cx="7386480" cy="155988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440"/>
                <a:gridCol w="1846800"/>
              </a:tblGrid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29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12.99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6.5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0.56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Box 4"/>
          <p:cNvSpPr/>
          <p:nvPr/>
        </p:nvSpPr>
        <p:spPr>
          <a:xfrm>
            <a:off x="843120" y="3400560"/>
            <a:ext cx="2612880" cy="256284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first look for the first price that my polo had. Then I look for the new price that it has now. Then I divide them and give me what is the difference, and I use my 2 price to find the percent of change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197" name="" descr="1987 Graphic Jersey Polo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400560"/>
            <a:ext cx="2712960" cy="31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tem #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" y="1598760"/>
          <a:ext cx="7386480" cy="186804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440"/>
                <a:gridCol w="1846800"/>
              </a:tblGrid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29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9.5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Box 4"/>
          <p:cNvSpPr/>
          <p:nvPr/>
        </p:nvSpPr>
        <p:spPr>
          <a:xfrm>
            <a:off x="457200" y="3981600"/>
            <a:ext cx="2612880" cy="146556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 did was? I  decrease $29.50 with $19.99  and  give me 9.51 which my percent of changes is 32%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202" name="" descr="Blocked Logo Graphic Tote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8880" y="3630600"/>
            <a:ext cx="2422440" cy="28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tem #3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63520" y="1598760"/>
          <a:ext cx="7386480" cy="155988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440"/>
                <a:gridCol w="1846800"/>
              </a:tblGrid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19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16.99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5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0.13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Box 4"/>
          <p:cNvSpPr/>
          <p:nvPr/>
        </p:nvSpPr>
        <p:spPr>
          <a:xfrm>
            <a:off x="457200" y="3548160"/>
            <a:ext cx="4491000" cy="201420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 I bought a sunglasses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t the originate price was $19.50,but I didn’t buy it because I didn’t have the money to buy but I return to the mall and was on a special price that was when I bought the sunglasses and the price was on $16.99 so I bought because I save $2.51 from my money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206" name="" descr="Solid Fashion Sunglasses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2400" y="3583080"/>
            <a:ext cx="2217600" cy="20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tem #4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3520" y="1598760"/>
          <a:ext cx="7386480" cy="1559880"/>
        </p:xfrm>
        <a:graphic>
          <a:graphicData uri="http://schemas.openxmlformats.org/drawingml/2006/table">
            <a:tbl>
              <a:tblPr/>
              <a:tblGrid>
                <a:gridCol w="1846440"/>
                <a:gridCol w="1846800"/>
                <a:gridCol w="1846440"/>
                <a:gridCol w="1846800"/>
              </a:tblGrid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24.5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$16.99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5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Box 4"/>
          <p:cNvSpPr/>
          <p:nvPr/>
        </p:nvSpPr>
        <p:spPr>
          <a:xfrm>
            <a:off x="457200" y="3981600"/>
            <a:ext cx="2612880" cy="1465560"/>
          </a:xfrm>
          <a:prstGeom prst="rect">
            <a:avLst/>
          </a:prstGeom>
          <a:solidFill>
            <a:srgbClr val="c1605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,I bought these shoes for $16.99 and I was impressive because the originate was very expensive 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211" name="" descr="Fur-Lined Scuff Clog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741840"/>
            <a:ext cx="246996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ow much did you spend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bought a shirt for $12.99.  I bought a bag for $19.99.  I bought  sunglasses for $16.99.  I bought  footwear for $16.99. I spent $66.96 out of $150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riginal Pri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originate price of my shirt was $29.50. The originate price of my bag was $29.50. The originate price of my sunglasses was $19.50. The originate price of my footwear was $24.50. The total of the originate prices was $10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 savings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saved about $83.04, now  i can go and buy more. But that is my savings for shopping. I am going to buy more with that money the next week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y percent of my shopping is 81%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8T17:57:14Z</dcterms:modified>
  <cp:revision>4</cp:revision>
  <dc:subject/>
  <dc:title>Write a title here.</dc:title>
</cp:coreProperties>
</file>