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F8A-5B78-4373-823C-448C6BB5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AC7-D9F0-4EF0-9638-012D9904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0DDB0-E9F1-4B54-8D26-B15602AF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766BF-7DBA-4CBC-B85A-858BA7F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3547E-B5DF-4C24-BB9F-05EA9A6C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9D7A1-77F4-459E-8D8B-CBB7E90D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C6EC2-399F-4EBD-B44F-65DD57D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C9FF-5AA5-4EB0-84D7-1F881D32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E3CB4-5E32-4F31-A889-B13B8935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125B6-F3A5-4390-A923-D9C6034B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C140A-55A7-47E5-9DBD-72E740C4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24F20-62C0-4F1C-AF84-C9497158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8EB-EB0A-4066-8F1E-0F9E5653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16A71-46C4-4353-90A6-DACA4A07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E18A8-A122-4AB1-919B-219CBE5A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A1821-97A7-404C-8252-A5C7D315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A274D-A333-4C0A-A178-FC7A4F65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87E1C-CAC7-4B79-B526-4719211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14A07-31A6-4714-8A63-2C26976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2D296-A3A9-4D81-B3B4-ECFC1A3D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5D3FA-CBFB-40B8-A4B5-2692AA5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8BE8F-A23A-404C-A932-9E08FDCB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718FD-AB41-410E-9FE9-F53CCB3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E0B-E72E-483D-90F5-8FFFCBF9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04F61-B31C-42CB-B01D-F6FB737D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5EA50-7C3D-4593-8118-9D87D24E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FCE9E-0E4C-481F-AB8C-D35719EE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3B76C-CDB6-4E34-AD12-E7ABF7E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40277-5D91-4B1F-BF27-88B5ABA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1A5F-6784-47F9-AFD4-4D2402B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05762-D3B3-4939-ADC5-3DCD82B0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80F90-BCC2-4B1B-B697-1B0E545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80FCC-F2BD-43CB-AEE0-E49E48E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456A3-09EB-4746-B46A-394E693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407B-708A-4DEE-8E46-202D1570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F6636-6EC8-4AF0-A771-E7AD2C27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43199-0739-42AC-B74A-2209DEFC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CE899-E548-49B1-9791-F93579D8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3CF0A-1801-4DB4-B35A-6617FBA4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82CDB-1591-4C35-AF0E-243E48E6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D56D0-3FBD-4003-8DC6-11960CA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A2F73-3E6D-4060-8129-53C8E1C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4047E-03B0-45D6-B292-48D5A869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54286-A743-48AF-B78C-5C03DBF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1DB21-A466-41CE-9CBA-FF46D2F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D49-4779-45AE-9B23-822407C9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F1413-6CB9-4425-9D9B-D6ECFA28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C38BD-B3D8-407D-AFF0-CE996D1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67067-D231-4A07-8B82-5743378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768E5-CF0D-46A6-BDC6-928B3B59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DFD82-8522-4EAB-A2CB-DD57012C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03724-DB03-43C5-B4FB-2C69C667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11B9E-ECE2-4E8D-8DBD-DC42201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47651-540D-447D-A9A8-EB59C0D1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3EF2C-E126-4324-9C28-769EAC38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D6E21-EC0E-4C98-9BD0-5318581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0C0A-B683-4937-8E7A-BDFF7834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25EB1-9B88-4D93-80FC-FF08E4E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A31A2-1C20-4FED-9C91-2094C1E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23672-D5B7-48ED-AE4F-8D7342CB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F5E58-EFB5-4F13-AFD5-05F0217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FBF64-EDCE-424C-8D36-8B8325A1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25646-F4D4-4EDC-849B-37C4B3D1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6917D-6983-435B-88A3-279F57AE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4EF9C-E332-4021-A84E-6E947EF9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4204D-9900-4B03-8665-86D1B3E1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DC1D9-9993-4C89-86B3-AA96ED8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0736-5346-487C-ACE8-0C147134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CB5D9-8524-4F90-A755-A61D62B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CA16F-AD37-4C91-A897-8C26C942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9F8FE-4CB9-4A9F-9713-82C1B3A3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7DC82-6253-47DA-9A16-E981E85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2779B-38FE-4E9C-BF2B-3987FDB2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3633C-B346-4F86-89D7-BE9A0DF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BE569-F325-4FF5-B1A2-1EEF5C0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2F0E0-C382-4794-A601-4B4255C6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3AFD5-16B9-4A67-880A-314208D8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DFBEA-5BB2-46A8-8218-BE725120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DFE5-9873-4D3D-B86A-FCB9B912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1C64F-0ABE-4E65-B0DE-21C8051C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6F2DF-171B-44E4-940E-01BA6C24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768E9-DEF7-42EC-87E9-88095B67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F543D-1CF0-4641-B8AC-DBF9286B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B40BA-23D7-40B4-9D53-90573B2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890B4-753F-471D-A27C-566B743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3FFDB-D363-4DE4-B0F6-4F63A24B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F70EA-6DF1-4AC5-9A56-E6285D1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12217-C20A-4469-BCB9-69CD6CBE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143CE-87AD-4E81-BE7E-09D3FF30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8F34-D216-4FF6-8282-FEA2B1DF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7DA83-8337-40C6-AE2B-C7BA8E73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6B7BB-29BD-4975-BF85-9AE6E2CD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9330F-A012-4F08-9B93-261173B9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BDC86-D929-4056-8476-AF826D3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C96C0-FD30-4CFC-BDB7-164ED04A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C5ACE-9248-4BE3-A4CF-0B84EC74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4A643A-EC6E-4771-8376-0E8159CE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C2453-31C8-457B-9BBC-5773A128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A6C57-9047-43C4-A7EE-470145B9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498A0-5FBC-46DD-ACF3-F6B0FF8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9C4-AC75-4A74-A711-FF0AA1D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37224-634B-4816-AD0F-66744880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F05B7-EB20-4CBA-9894-FF981F05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A2DA2-A079-455F-9820-E7315089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B59-3EA9-4269-BF88-2AC90653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543E-51FA-40DB-A001-3DE539B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F48A-F78E-448C-A7A9-C8ADA22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7428-F878-46FF-9241-D111823C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2F16-90B0-4CF7-8EFE-7B124065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6F1C-1408-4644-B985-AF22B1F8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4CB1-6FE6-4791-9938-195953E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73AF-4923-4146-84CD-F4D7E17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D2A1-52D4-402D-BD62-B3229CE6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2A0C-A982-4E90-A2D1-9AC305FE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C8C7-7805-422B-8823-2FC00980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478-F949-44C8-B7E8-B6601434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3A46-4E95-4DD0-8D05-B68FFCCD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D799-B885-43DA-A71F-E04759B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386E-25B8-4B2E-AA24-ED1C023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B937-18AB-48F5-BD5E-203D350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AE20-EBC0-49F6-949C-9F653104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E308-551F-437E-9CE5-E0190CCF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339A-3F5A-495B-AC09-73E1B14A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8A103-849C-40AE-984E-0C39B11D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2FB16-196C-46C3-BB5E-16963B06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311B2-7D2F-4389-BF77-E49A3520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80C-106C-402F-BDC8-434D1746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11A6D-AA8D-4E8E-AF83-21D8A3E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E85E4-B8B4-4F62-BCEC-B05C130F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9A0C2-46A7-4C43-AE43-932E5A96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B4209-551C-488D-9873-449B49C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FB8C3-D315-4804-8B17-EFFB3F2E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AC28B-213A-4C7A-855E-E71F015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9B0F2-E8B6-47EE-AD3C-8F3BC63B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07DCE-FCA7-4983-A039-DB0806C5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DA530-F091-43C9-9227-B56FAFDC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19F2A-26DD-4200-98BA-F037E998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398-EF0E-455B-B94C-2FF889E5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66F2-1D1E-474A-AC2F-55370EC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801B-CBE8-41E5-B77E-5B048EC7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B9E1-6A15-4A9C-A9F7-7830702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F357-71D6-43A2-BED8-9E220E89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0338-B29F-4D69-BE4E-01D3AB9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E22B-6476-49F3-9A22-E8B7AF7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6EF4D-DCC2-48B9-87FC-A574068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1533-D283-47A0-A5AE-1D0F619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E2FE-0D08-4CFC-8617-BBEB76DE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C42B-6C7B-44F9-8E48-CA84A064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B57-F7EC-4827-AD8B-517393A8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7C8CE-43F3-490B-9A36-FFE50717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1C6A-2488-40EF-84B7-504AE3DC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43C4B-E7EC-4994-8379-54AE7D5A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6E1DE-1BCF-49BF-9236-711FE1FE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3888-9F68-4DC2-9915-BA6CB4E6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2C88-4FB5-465B-9B9A-C06614C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C6B4-5095-4FA1-98E2-C3EFA75E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027A7-8DB1-44A9-AC1B-009D89A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FF96-6958-4889-B4DD-C41C7FC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1008F-726C-4B52-B4BE-2CBFDA49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D69-5ADF-4022-ADCA-5134458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9EBD-18E6-49ED-BFA4-3E5DFEF6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6FAB-3F10-4893-A549-9B228769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FC22-DF53-41D7-8AEF-F49631C6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7C30D-6EE4-4885-8B7D-B0676430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C220-3F68-4F05-9056-CDC809F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D390-5E4F-4B2C-B91C-0DF4173F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BE57-FBFF-4721-BEC2-D13B965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FACBA-FCE4-4900-A022-8F71AF2F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D7EC-0EC6-4471-B857-5613C6A6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28D0B-F006-4675-9F0C-41F9367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57D-B955-495F-AE84-DA9782E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92FA-D93F-4629-9ABD-CB59D6B5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309ED-1F8F-4211-883B-2CEFCB8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229DA-07EE-4A35-BE96-3D5B9CC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0B1C-4C5E-4FCF-9D8F-23F8B5B1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490E2-832B-4A4D-AB95-DBC9C259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E235-8AA3-4D16-8085-4A329A48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3EEDE-CE0C-4A0C-8133-26867D7B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13268-1407-4882-B16A-A29D01F3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A4E5-23EF-4857-BA97-717BCFEF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0854-75B5-49F9-91FA-B80B7923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414-2BE0-4B30-A84C-2314E06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3BC3-4D3C-41A7-A27C-FD372A50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7DBA-5FAF-4935-989F-B17C16A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DE1CB-A38E-4A0F-A95C-385DE81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4DC3-1247-416B-9119-586C9B0D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7CF0-ED5A-4936-8EB1-677B4FB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E0F9E-50A1-444F-A0B6-E28FD0C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AC2D-E49A-4942-AADE-68426E3D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726E1-40A3-4B2C-BF2B-377AEBAA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90B99-1B95-46F7-B766-FDCD5F7F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139F6-B212-4864-BD55-5A4FFF27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F1311-E7A8-4D7D-844F-2689EECF8C1C}" type="datetime">
              <a:rPr b="0" lang="en-US" sz="1400" spc="-1" strike="noStrike">
                <a:solidFill>
                  <a:srgbClr val="ffffff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480A6-4AE1-4E41-B139-50ECD37BE07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5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6A407-FD52-44DA-B757-B1DAB4565F5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6BCA9-4813-4863-851C-55A9BEF3F3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F1357-8320-43BB-92BA-294FBC39BD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4480D-9533-4F3D-A9EF-7E43DF25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5EB6A-3402-43D4-82F7-4BA6C64EF0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0CB4D-A1D2-45D6-BA70-A5482A0E3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1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E3C5C-714B-46E7-97BA-AE6021DB85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FD27A-D722-41C9-8701-62D3C8FC7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6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D387A-8F80-437D-B685-7D17D6D492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4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C3A7A-581A-4EEA-BFDA-E927FE90A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0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1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1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2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98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02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0704F-E42C-4D96-BB44-EACFEFDACB14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7E761-D65A-4C65-B94A-B5FAE10503B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8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8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8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9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9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0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0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1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1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2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2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2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4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4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5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5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5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5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20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0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0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8F2BA-D0E3-4925-B531-68EE1318E58E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86DED-1EA4-40CB-907A-8F452371C24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C8A5B-F4B9-48B4-8776-6895119E1941}" type="datetime">
              <a:rPr b="0" lang="en-US" sz="1400" spc="-1" strike="noStrike">
                <a:solidFill>
                  <a:srgbClr val="ffffff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75A1F-67BC-44CF-A91F-70FF38E7B2D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2CB80-EEAF-4E3A-B580-01527F6D32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CE301-9E2F-4D59-8BBC-60F2FEC6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E7809-FDE1-49A3-BAD0-639679BA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109FF-830F-494B-B440-ABB5F261BE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3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54607-B7AF-4F4B-AEA6-AB43C9DD314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7D5BE-705C-48FE-97BD-D9C2D7E682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7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40D56-7C90-417D-980C-0FB384990E4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B47A3-F0CB-4D58-A0D5-09804D5823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DBAAA-747C-4C04-AAE7-925AB706E40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6BEFF-F2C2-43AE-B454-FF2BCCF185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29C58-9DDA-4493-B670-FA35864317B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22259-C11F-4187-B1EE-AB68DC3A6E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0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FFC54-EC78-48B5-A216-D3589548751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E38E0-9077-4D1A-8842-B76BC75567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278&amp;vid=2&amp;pid=75045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5&amp;vid=1&amp;pid=783496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ap.com/browse/product.do?cid=26284&amp;vid=1&amp;pid=768704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nanarepublic.gap.com/browse/product.do?cid=15866&amp;vid=1&amp;pid=63059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hopping Day yupii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EGO MALDONAD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em #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457200" y="1905120"/>
          <a:ext cx="8229600" cy="1425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62" name="TextBox 5"/>
          <p:cNvSpPr/>
          <p:nvPr/>
        </p:nvSpPr>
        <p:spPr>
          <a:xfrm>
            <a:off x="4821120" y="574056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3602160"/>
            <a:ext cx="192384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em #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533520" y="1828800"/>
          <a:ext cx="8153280" cy="13996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6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6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tem #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457200" y="1981080"/>
          <a:ext cx="8229600" cy="1425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2b5481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72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67480" y="378612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457200" y="1600200"/>
          <a:ext cx="8229600" cy="1569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6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7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373212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much did you spend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 sentence telling how much you sav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 sentence stating the percent of chan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6:25Z</dcterms:modified>
  <cp:revision>5</cp:revision>
  <dc:subject/>
  <dc:title>Write a title here.</dc:title>
</cp:coreProperties>
</file>