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37E-40BC-40E1-A941-545FABAD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537-8ABF-45A1-BD22-44AC2071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343FD-9CEB-44FC-9D78-00D0A04E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F2250-EA4B-4EE7-AF35-BFD1CC6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704A7-6905-48BC-816D-FA44CA49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D57C7-DD78-4328-BFA6-3BB11FD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C6B2-0F39-4191-8B85-7643769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6EC98-FC76-498A-8815-649A19A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3C1C9-5FA7-4F48-86CB-68CACDA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4F3C0-0DC0-433C-918D-F9B3696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9366-8506-4EB2-B2EB-FA940D78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32360-3D05-439E-81EE-2858869B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6A6-0EA5-42BD-BF42-2B89D4DF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4EED7-E784-421F-97AD-61B16E8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2D29C-4E48-460A-8E5E-2877165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C4F0D-0E63-4897-9EE3-E272A8C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D7964-8391-4283-BBB9-79B4A344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B40B7-691F-461F-A50D-550D2F0D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CCF7D-60EE-4456-B624-AD372613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2CDAE-0E99-4B6F-BA72-F171C58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B82F-9358-4AB5-B284-8C2D447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E8A3-F22D-4B84-BE75-8339125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B5247-A56F-4F07-AFD1-3C11BCB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6EB-F29F-451E-8BFF-6D3D2362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40369-0403-4C4D-9004-AF0803FD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26454-60C5-4842-ACE5-D52A42BB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C764-586E-4920-9692-1BDF956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978F7-92F8-4060-97FB-8B0FC6E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E118E-E33E-41EA-8231-09594AF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BD5E0-65EF-4EE5-9C99-6DA776DE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91DD-79EA-4638-A293-A6820B5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F1B1-14CE-4FDA-B4BE-14EC9F0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92E5-9F79-4A40-85DB-F855308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1B244-DB36-465C-8F82-453C993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1A48-28A3-4530-9F9F-577E32CD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C39B3-E05A-49D8-A5B6-BAB7FE00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7A2F-0C96-4A72-ADD7-757569C4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0E82-A7D4-4A7F-962A-396CAFA2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72A0-2E71-4D34-9336-CE89CE32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CB387-02C5-4496-A253-96D541F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13DEB-AF7B-4768-9F8A-F2861749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449F2-D1C2-4A53-AC7D-90F90615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3F13B-0EC6-48FA-B85D-38DF1BB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954CB-F3AF-4406-B2DB-1647A4DC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58A8E-6C54-4B1A-A469-CAAC093C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9F6-AA56-42A7-B473-ACAB232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8272-7F29-44AF-AFF1-9396BB6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7858-6B0A-4129-971D-90384A4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5C7A9-09C8-460F-B191-339319C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FCDA1-3DDD-47ED-A6C9-DF8717F5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4A211-BF7A-413C-9C2F-528A66CC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83067-2154-420E-A2CC-0277B058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23800-72AA-4626-A29D-DA5A4ABC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F84BA-4F4E-4FEF-A848-5E44361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D451B-26F5-4CF2-8D55-1CE3721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EA795-4506-4485-9E85-A5F18A1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2C53-07BB-43FE-A374-89278BA9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BB5BE-641E-434C-8C88-3292225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44F25-09C3-4B27-9CFB-BC2E2390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8F460-168A-4366-9DE1-FA11B3B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F03C9-B2B2-475C-8BE8-8995B50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128E3-0714-4445-BCF7-A106777F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813BA-597D-4CAB-B533-095B2C9E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0E828-45D8-4411-8BEA-CBD80B11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68D25-1489-4B62-B58A-EAB1892B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BD45D-A52A-444A-B951-5011C48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CA87A-D0F8-4025-8215-69E215E9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8BEC-F198-4F01-8E47-0BD4BD6A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BAF6C-7E75-4DB8-9E0C-B5C8B1F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D2148-F066-4B7C-A801-BD324A4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9C60B-FC55-4E28-A308-097233F1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6145D-19F1-42BD-B406-93D10C0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FB085-0CD7-4E6D-8631-25D35692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A59D2-007B-4408-8C9D-371B1F60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DF767-66E8-42ED-A67A-249160D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94974-5474-4716-AA10-8BF64057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5E7AD-759F-4CAF-80CC-71B5C640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6D9D6-7CD6-42D3-8400-77E1D7B7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7AFC-D40E-4202-83D2-E50C6B09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1AF35-4DF5-486A-B53F-C05F3E7E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A47F8-C2FA-48C3-8CB5-B042D090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35445-79F1-4042-AD12-68CB3F46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AD888-6DC5-422E-A9FB-28D431E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C8465-0F4E-42B2-A8ED-94F9601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E38C9-B5C1-4057-97DE-6A20C3E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DD42C-2263-4465-B6B2-437EAE7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C4C1B-F7E2-4B91-A419-308104F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2E277-F395-4E75-B171-AA97ACAA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ED8B4-858E-4562-B7D1-88ADA110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DD6A-5F78-4739-89A0-BE91A51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4AC4B-0BEC-4093-B176-72F839B7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D7514-8422-4C41-AA3F-C676B6D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FF078-9391-41E9-B01B-14B4B987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606AF-F652-4EC2-AC6E-E488F58B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16661-4091-4EA3-B974-F91B063A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F7D83-F67B-4B64-8088-93D4A9F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7D77D-2D4D-4D59-B595-362FED1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8A6AA-BAFE-49CE-86DC-6EAE1EF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AB176-05A3-4817-ACEA-F870DCF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2AAF0-AE66-45D0-94F5-95046A7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7FE-5B05-4C75-953F-43D5706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84298-6D58-4DA4-9CA3-190DC9B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C5168-C336-4062-84AD-5184C07B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F52EC-5C69-45A7-9FB3-A23B7CD5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CD1-0454-4F09-B220-7F56BA6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077E-3882-4B7B-BD9C-74AD00F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096D-813B-4EFA-97F3-877881C3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73D-42E8-464D-948C-D1D5C38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CEA-3E92-4080-9D2E-CBF8077A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C2D-F30A-4466-89AF-AAC93EBC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E28B-CB7E-4BA4-9098-4F917FEC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BBE2-68CE-4F87-B4C8-AFD7425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5CC9-4F84-4900-B627-7B6BD09F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07BA-7486-4727-B6B7-63BAA4C0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99B3-A917-4AF5-A172-0D2A15AA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07E-3AC6-4345-BD87-A9BECE1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2EFF-5353-45AF-8A5D-4C200D4D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5D26-EB47-488F-81B2-93B5046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662A-44B0-4903-9B28-FC6E32F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ED67-CAB0-467E-85DE-1BE4050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CF8F-FE53-4CDB-9F93-A4B39EDC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5AC1-C33D-43A4-833F-94701575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9543-00B8-4B23-A1B6-5BFB9D64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F9082-FD83-4399-B17D-5C1944AF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AB9F0-866E-43C3-BE0F-AF9031A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E64FE-AE8A-4205-9F11-CA9473F8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BC1-F310-493C-972F-DFE28859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07D49-2014-404C-B80F-5F8A6B69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D1029-FDBA-4F51-BFC0-924BC3A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2DD40-1D13-4AC8-B4E8-3391EF7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CA8D7-0EE3-4E5E-9009-D48ABB0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81BC1-4F46-4427-9477-CC9CA22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A00CB-80AD-4ACB-A4B4-2819E22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1EC0D-7286-446F-A988-1225C792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A3719-F03F-4C26-9B6E-D437BFF4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3E591-7F22-4A20-9F16-6BCB3CF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0FAD-74CC-49C6-90BA-0D316276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C48-C65F-4197-84A0-D8C21D1F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5C6E-EF21-40E7-BA6F-9AF3034B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9A70-61D9-4495-B75F-F018906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3A34-4228-4308-9243-6B995345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F80D-C2E9-4058-A70C-80ADBF7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91FB-E1D8-4469-8723-69AB501F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A2B44-9865-4EB9-BFCE-0587768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C70A-4FA4-4930-8897-8E57FEC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80C1-06FF-48D3-90C2-3C6F98D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AA7E-C781-4E71-9714-E48BD081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346F-62D1-40D7-80B5-4261FAC0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8B1-A8FC-450C-A566-AC94025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AF6E-1F99-4042-8831-134A6B27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B7AF-6C5C-48E5-B3A8-91E9547A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D49A-C2E4-44AF-B784-B374F861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A230-FD7E-4552-B201-FC8C56C3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8C0A-932B-4C89-B551-6D88136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6AF0-B830-4785-8EC7-0817FB1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93B9-D274-4308-9521-93E5F74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8892F-2216-4C95-AA60-034F092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FBAE-46A9-4A78-8BC6-97C5E4E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41EB-B6F1-439F-9A05-B3B00069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48B-23C2-4F14-B397-6D8E418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4CFA-60BD-4606-829C-3079297B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741D-7A58-4F41-8982-4ABC91D9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8CAA-65A7-4467-8FB2-4A409B79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E9C5-2E99-4FE1-B650-3B3C54C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93B8-95A3-42C3-A80F-B452FE4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919B9-0F7C-4B71-B341-9186567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FAE8-319F-4466-BF6E-24E9723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CFBB-DC95-4AC3-A260-2A9A891F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BF47-2BC8-4421-AD6B-00552BA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97575-5C25-48DC-9C5F-81473BD4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6C5-03B3-42ED-9C24-5D7D1CA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979DD-4D82-41A8-B1D9-C0B6F96F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AAD4-3956-49F7-A29F-E999C3A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C0FF-4F3C-4BD7-A99C-68B1D32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77A09-45FF-4BDA-A8AF-50A75ADB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FB3CF-4C7A-4E5C-B738-E611C04D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5D28-0CCB-47CA-A700-919AD2B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C9514-08B5-4AE1-BC47-7508A950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1AD2-9768-4373-8DF0-96BE7221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810C-5D97-454F-ACC5-1CF1FD9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FC6C8-A2D7-470F-8E76-4C369BC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B81-AA91-47E9-B694-7915EE2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DA8F-3D8A-436C-96C4-9B19731E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7C9A0-C2C0-4E46-A49A-64CDCB9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435C-267E-4243-9443-4359C27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FB31-11CC-4ED5-B1BC-6E18EC5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19966-38EB-4FFA-AD0B-66C8E93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A3041-E7DD-4D95-A3F1-DCD247B2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D347F-6CD3-4A61-ABA8-4613D85A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CE23-23E9-45C2-BC25-6647202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5AF7-C78E-4D71-8301-CEA8DD9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03F9-F5C4-4C77-B0F2-F1271B2A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C6BC8-E421-40BB-9A41-B6C68E4FF80F}" type="datetime">
              <a:rPr b="0" lang="en-US" sz="1400" spc="-1" strike="noStrike">
                <a:solidFill>
                  <a:srgbClr val="ffffff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022D5-1C52-489C-AE46-5B41695707D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5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48C2C-9734-4102-9EAF-000806D72FA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FA34B-D9D8-4F48-808C-EC81058469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3A2E-44EE-4377-A7AE-301DE63B30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3C879-96D0-4ECC-88F3-01548EF6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3293D-D23B-4A2C-B170-D6C75B2164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4E4A4-9CEA-4C47-8142-EF5F8F06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1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2DAE0-D89A-4B68-BE7C-F3C5AB79D6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496E0-4C8D-4160-9E23-4E4DCA6DF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19072-962A-4769-BB49-C93D5115A1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6DFB9-04D1-4CE9-93D2-3D3EBE729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98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02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44918-B34E-4F28-B971-4BEE7323BBEE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16208-760E-40ED-9B72-93FC0198BA7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8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8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0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1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5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5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5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0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0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DDD2D-2365-4A80-93D8-BBE51AE77F9F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664B4-E761-4D80-9268-468F0C5F707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0C938-560F-48F8-9A65-4046F0AE5FF4}" type="datetime">
              <a:rPr b="0" lang="en-US" sz="1400" spc="-1" strike="noStrike">
                <a:solidFill>
                  <a:srgbClr val="ffffff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1061E-9163-4C85-ADAB-42CF907F27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7D617-6C3C-468A-ADC4-8E3A2974C4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2D9CC-43C9-424D-9CAB-B67BE8C0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18E1E-39CA-49DE-B2D1-95292C55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55FD4-2BCF-4651-B6D9-40489D92B3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3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834E6-4F87-416F-964B-C1C92962923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5566B-82F1-48F5-A4A8-A0CE39E8E1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B15B1-7B90-4C2F-956E-5ADD1C8EDB7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C6720-888D-4CD7-BB34-7BFFA23067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97673-8B2F-451F-83E3-035524E56F1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15DC1-A5B5-477A-8DC9-9ED042976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E556-87F8-469C-B2FD-7F37CC831B8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B34BA-0739-4745-8493-862CCE98C7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0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Calibri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1EE01-3BED-4738-8CC8-9DA0AF696B9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CEC60-96DA-427A-A1E0-2F557D6A10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278&amp;vid=2&amp;pid=75045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5&amp;vid=1&amp;pid=783496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ap.com/browse/product.do?cid=26284&amp;vid=1&amp;pid=76870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nanarepublic.gap.com/browse/product.do?cid=15866&amp;vid=1&amp;pid=63059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pping Day yupii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EGO MALDONA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457200" y="1905120"/>
          <a:ext cx="8229600" cy="1425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62" name="TextBox 5"/>
          <p:cNvSpPr/>
          <p:nvPr/>
        </p:nvSpPr>
        <p:spPr>
          <a:xfrm>
            <a:off x="4821120" y="574056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360216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533520" y="1828800"/>
          <a:ext cx="8153280" cy="13996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6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em #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457200" y="1981080"/>
          <a:ext cx="8229600" cy="1425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2b5481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72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67480" y="378612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457200" y="1600200"/>
          <a:ext cx="8229600" cy="1569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6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127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1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373212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 sentence telling how much you sav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 sentence stating the percent of chan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6:25Z</dcterms:modified>
  <cp:revision>5</cp:revision>
  <dc:subject/>
  <dc:title>Write a title here.</dc:title>
</cp:coreProperties>
</file>