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00F2-C073-4A9E-A75A-202D6116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BA23-4C8D-4709-B11B-05DB141A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475-FD6C-432B-983B-7EB399A1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E7F3-184D-4F28-9E82-0BDF2CD5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6B8D-893D-463C-843C-060B5374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CF7A-6066-44BA-A6E0-6FB94CE9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CBF1-6F2F-4E67-8B35-10F20BDD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EAC8-2461-4EFB-A31A-375224DF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DF7B-E160-4DCB-8D36-717485AE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3EB8-48EB-42D8-8460-45D7E73A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425F-E4DC-4743-9485-A486871B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E02A-781A-42C0-8862-A806686A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4A2E-AB4E-4799-9134-44013301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020E-DBBD-4296-87D4-2229B0A9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8E19-09CE-48C2-8080-7378652C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67BD-9C76-41FD-A745-54A1068E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648F-2774-4336-AF48-09CAE279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CC8-C486-4194-8CDA-421FEA47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C4DA-5103-4910-A57D-AC7A3ED3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E0F-1090-415F-A1BF-6BDBF3BB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A856-EB6C-4996-B2C7-A80458A3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D084-FB35-4981-B9C0-FC68374D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7813-6C87-4329-BA9B-EF53C118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C056-AF8B-4103-BDAE-B0B1BBEE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6A1AB-D5D5-4E0E-B416-9EE9DC10E721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226B01-B652-48A8-A3F1-8869959A145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15DF7-3E35-4207-A187-D868E1628E1A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D279B-B79D-4DA6-8538-D5D2E52E7EF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10894840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hopping Spree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50% Off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Verdana"/>
              </a:rPr>
              <a:t>Jahlisa R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ur –line puffer ves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6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34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3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Box 4"/>
          <p:cNvSpPr/>
          <p:nvPr/>
        </p:nvSpPr>
        <p:spPr>
          <a:xfrm>
            <a:off x="2514600" y="3981600"/>
            <a:ext cx="2903400" cy="3020040"/>
          </a:xfrm>
          <a:prstGeom prst="rect">
            <a:avLst/>
          </a:prstGeom>
          <a:solidFill>
            <a:srgbClr val="ff99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did the original price by the  new price and got 34.51 to find the percentage  I divide the  difference by the origin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Fur-Lined Puffer Vest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3981600"/>
            <a:ext cx="1733400" cy="2019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ropped skinny button jea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229600" cy="1626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6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34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3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0.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TextBox 4"/>
          <p:cNvSpPr/>
          <p:nvPr/>
        </p:nvSpPr>
        <p:spPr>
          <a:xfrm>
            <a:off x="457200" y="3454560"/>
            <a:ext cx="4995720" cy="1922760"/>
          </a:xfrm>
          <a:prstGeom prst="rect">
            <a:avLst/>
          </a:prstGeom>
          <a:solidFill>
            <a:srgbClr val="ff99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subtract the original price which is $69.50 to the new price which is  $34.99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Then I divided the difference which is $34.51 to the 0rigin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52920" y="3429000"/>
            <a:ext cx="24768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l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9.5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5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Box 4"/>
          <p:cNvSpPr/>
          <p:nvPr/>
        </p:nvSpPr>
        <p:spPr>
          <a:xfrm>
            <a:off x="457200" y="3981600"/>
            <a:ext cx="5121360" cy="3020040"/>
          </a:xfrm>
          <a:prstGeom prst="rect">
            <a:avLst/>
          </a:prstGeom>
          <a:solidFill>
            <a:srgbClr val="ff99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The  original price is $24.50 the new price mark is $19.5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What did was subtract the original which is $24.50 to the new price $19.50 and got the difference which is $5. then I divide the difference to the origin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485784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578560" y="3138480"/>
            <a:ext cx="2879640" cy="3321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Zipper 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3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0.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Box 4"/>
          <p:cNvSpPr/>
          <p:nvPr/>
        </p:nvSpPr>
        <p:spPr>
          <a:xfrm>
            <a:off x="1554120" y="3286080"/>
            <a:ext cx="2613240" cy="3385800"/>
          </a:xfrm>
          <a:prstGeom prst="rect">
            <a:avLst/>
          </a:prstGeom>
          <a:solidFill>
            <a:srgbClr val="ff99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subtract $34.50 by $29.99 and got $4.51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Then I divided  the difference which is $4.51 by the original is $34.5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1000" y="3286080"/>
            <a:ext cx="2476800" cy="3286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w much did you spend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bought a vest for $34.9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bought a skinny jeans for $34.9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 bought a belt  for $19.5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bought a zipper T for $29.9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total is $119.4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riginal  pri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592200" y="1417680"/>
            <a:ext cx="780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1033560" y="2324160"/>
            <a:ext cx="7173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 bought a vest for $69.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bought  a skinny  jeans for $69.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bought a belt for $24.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bought a zipper T for $34.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 total is $ 198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y savings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I bought the fur line puffer vest my saving was $34.51.I saved $34.51 on a pair of  skinny jeans. On a belt  I saved  $5. on a zipper T shirt I saved $4.51.  I saved total of $78.53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percent of change is 65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9T20:35:56Z</dcterms:modified>
  <cp:revision>7</cp:revision>
  <dc:subject/>
  <dc:title>Write a title here.</dc:title>
</cp:coreProperties>
</file>