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108-DBF7-476F-AB9C-2C608C61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D7D-ABD2-4FAB-8B7E-F192F454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FA1-2EAF-4692-AA42-A8A82308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0D0-C028-4E62-823E-37DD21E9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AB61-6883-408F-995A-CB0DADDE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5C29-5846-49F4-A93E-0FD27D6F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B2B1-87D9-4068-98D8-4E83F089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1CFF-35BD-4B5B-AC64-93BA6F18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E63E-50C3-451F-B138-0E182E6F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6E7B-8427-42BA-B4E7-10E8FC37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3E26-6781-4D8B-9120-6F2B6FC5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202-F198-4DDF-A689-573CE933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FF7E-3787-473B-B024-7A73AFF5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D324-0990-4F99-957D-944C68E9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1FE8-0993-4D2E-A924-4F86443D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0A0D-6176-45E4-A5E9-34BBE042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53B1-F957-4BE3-AD70-D5133DD0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B10-39B3-4D28-8732-7D72F048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E01-1DE3-43C8-9658-BA8B2E19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3E3-6211-48CD-AC59-1EE61E2E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5C4-B4CA-4CE4-B2E8-D692DDFB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75D-901E-466C-A55F-3A056940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17B-1997-48F0-AB7A-27DBCDF6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95D-94FB-411A-87E1-5E001A32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61E25-A492-44C3-B38F-89C5A772D70C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A8DF0-1570-4608-87E9-20449E0C71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8CB4B-03F2-4771-8564-776C0F273F49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83628-BA98-4A23-9174-281D5DB8A6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1089484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hopping Spree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50% Off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Verdana"/>
              </a:rPr>
              <a:t>Jahlisa R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r –line puffer ve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6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Box 4"/>
          <p:cNvSpPr/>
          <p:nvPr/>
        </p:nvSpPr>
        <p:spPr>
          <a:xfrm>
            <a:off x="2514600" y="3981600"/>
            <a:ext cx="2903400" cy="3020040"/>
          </a:xfrm>
          <a:prstGeom prst="rect">
            <a:avLst/>
          </a:prstGeom>
          <a:solidFill>
            <a:srgbClr val="ff99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the original price by the  new price and got 34.51 to find the percentage  I divide the  difference by the origi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Fur-Lined Puffer Vest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398160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ropped skinny button jea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1626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6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0.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Box 4"/>
          <p:cNvSpPr/>
          <p:nvPr/>
        </p:nvSpPr>
        <p:spPr>
          <a:xfrm>
            <a:off x="457200" y="3454560"/>
            <a:ext cx="4995720" cy="1922760"/>
          </a:xfrm>
          <a:prstGeom prst="rect">
            <a:avLst/>
          </a:prstGeom>
          <a:solidFill>
            <a:srgbClr val="ff99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subtract the original price which is $69.50 to the new price which is  $34.9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Then I divided the difference which is $34.51 to the 0rigi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52920" y="342900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l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.5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Box 4"/>
          <p:cNvSpPr/>
          <p:nvPr/>
        </p:nvSpPr>
        <p:spPr>
          <a:xfrm>
            <a:off x="457200" y="3981600"/>
            <a:ext cx="5121360" cy="3020040"/>
          </a:xfrm>
          <a:prstGeom prst="rect">
            <a:avLst/>
          </a:prstGeom>
          <a:solidFill>
            <a:srgbClr val="ff99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The  original price is $24.50 the new price mark is $19.5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What did was subtract the original which is $24.50 to the new price $19.50 and got the difference which is $5. then I divide the difference to the origi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85784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578560" y="3138480"/>
            <a:ext cx="2879640" cy="332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Zipper 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0.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Box 4"/>
          <p:cNvSpPr/>
          <p:nvPr/>
        </p:nvSpPr>
        <p:spPr>
          <a:xfrm>
            <a:off x="1554120" y="3286080"/>
            <a:ext cx="2613240" cy="3385800"/>
          </a:xfrm>
          <a:prstGeom prst="rect">
            <a:avLst/>
          </a:prstGeom>
          <a:solidFill>
            <a:srgbClr val="ff99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subtract $34.50 by $29.99 and got $4.51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Then I divided  the difference which is $4.51 by the original is $34.5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1000" y="328608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vest for $34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skinny jeans for $34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 bought a belt  for $19.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zipper T for $29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total is $119.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riginal  pri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92200" y="1417680"/>
            <a:ext cx="780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1033560" y="2324160"/>
            <a:ext cx="7173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bought a vest for $6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bought  a skinny  jeans for $6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bought a belt for $24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bought a zipper T for $34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 total is $ 198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I bought the fur line puffer vest my saving was $34.51.I saved $34.51 on a pair of  skinny jeans. On a belt  I saved  $5. on a zipper T shirt I saved $4.51.  I saved total of $78.53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percent of change is 65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35:56Z</dcterms:modified>
  <cp:revision>7</cp:revision>
  <dc:subject/>
  <dc:title>Write a title here.</dc:title>
</cp:coreProperties>
</file>