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943-775B-4BF1-807F-6315945F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3A8-E5C1-4B7E-AA15-6759EC5C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7EA-38F8-4639-AC5F-C0703D44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0BD-FE0C-40A0-BF01-C95D0E3E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EC8E-3C38-4926-92DF-75E785BC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C86B-D251-47EE-B68E-B91FBAE0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80F3-AC51-4AFA-8CA4-0B5B34A1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571-0D7D-4A83-A481-8FB1343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8929-78A6-4419-BB7C-756E9A2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0C5F-B9BF-46B0-8D4A-CD05354F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E1E-C47C-4826-9329-9154AF4D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36A-E990-4F91-A531-64B91F1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DFEE-2C06-4D4D-B927-93F72A8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1C4-5956-4B91-B956-61D0E96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4C59-F6BE-48AC-AFE2-F5C0AD93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EFA6-4674-439A-B189-D9A235F4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DC51-CFA2-4A7A-AFC6-BE248DC7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E1A-E996-4F04-AE5D-04325286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7C0-EDBD-4D4C-8968-C5C42F60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ADC-D27C-4221-9F42-0F51ABFB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EE7-A394-40CC-AF55-3B2467BE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7AA-F893-4566-B20C-F2BE8B4E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B1B-7F87-49EF-8A37-DC96219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A5D-A95D-43F1-87F3-F7F387D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606A2-18F9-4139-9A10-F8A462D3F7C5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32642-9147-4DF1-BAD3-D453FCE67E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C06D7-76FB-4F68-9F25-EF307E1A320A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41A12-3EE7-4279-9F04-528DAA365E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1089484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hopping Spree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50% Of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Jahlisa R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r –line puffer v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Box 4"/>
          <p:cNvSpPr/>
          <p:nvPr/>
        </p:nvSpPr>
        <p:spPr>
          <a:xfrm>
            <a:off x="2514600" y="3981600"/>
            <a:ext cx="2903400" cy="302004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the original price by the  new price and got 34.51 to find the percentage  I divide the  difference by the o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Fur-Lined Puffer Ves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98160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ropped skinny button jea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1626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0.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Box 4"/>
          <p:cNvSpPr/>
          <p:nvPr/>
        </p:nvSpPr>
        <p:spPr>
          <a:xfrm>
            <a:off x="457200" y="3454560"/>
            <a:ext cx="4995720" cy="192276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subtract the original price which is $69.50 to the new price which is  $34.9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n I divided the difference which is $34.51 to the 0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52920" y="342900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l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.5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Box 4"/>
          <p:cNvSpPr/>
          <p:nvPr/>
        </p:nvSpPr>
        <p:spPr>
          <a:xfrm>
            <a:off x="457200" y="3981600"/>
            <a:ext cx="5121360" cy="302004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  original price is $24.50 the new price mark is $19.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hat did was subtract the original which is $24.50 to the new price $19.50 and got the difference which is $5. then I divide the difference to the o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85784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578560" y="3138480"/>
            <a:ext cx="2879640" cy="33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Zipper 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0.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Box 4"/>
          <p:cNvSpPr/>
          <p:nvPr/>
        </p:nvSpPr>
        <p:spPr>
          <a:xfrm>
            <a:off x="1554120" y="3286080"/>
            <a:ext cx="2613240" cy="338580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subtract $34.50 by $29.99 and got $4.51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n I divided  the difference which is $4.51 by the original is $34.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1000" y="328608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vest for $34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kinny jeans for $34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 bought a belt  for $19.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zipper T for $2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is $119.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riginal  pri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92200" y="1417680"/>
            <a:ext cx="780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1033560" y="2324160"/>
            <a:ext cx="7173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bought a vest for $6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 a skinny  jeans for $6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a belt for $24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a zipper T for $34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 total is $ 198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I bought the fur line puffer vest my saving was $34.51.I saved $34.51 on a pair of  skinny jeans. On a belt  I saved  $5. on a zipper T shirt I saved $4.51.  I saved total of $78.5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percent of change is 65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35:56Z</dcterms:modified>
  <cp:revision>7</cp:revision>
  <dc:subject/>
  <dc:title>Write a title here.</dc:title>
</cp:coreProperties>
</file>