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684-402F-4743-9BF4-C55B463F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1C2-10C2-4E67-B271-E106A55C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FAC-4639-476B-A63D-E5F8BE3F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68F-472A-46A1-9BDC-45BA469D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7E0-69F0-4488-89D7-6BCF4CD7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F81-586A-4DDC-A264-3C21A51F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2CE-2CDB-43B2-AB28-21C79C1A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D58-3312-4CB7-A519-7BFBBF3E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36E-69CD-4115-AB29-3BF74B9D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033-0239-4DC8-9E22-3D4F0459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203-1519-484D-B9D4-4644C138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1EB-A496-40D6-9F14-8205EB24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C22E0-39C7-4903-AAC4-57FA8063A0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F30ED-165A-4AF6-BD64-ED35DE3D0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9&amp;vid=1&amp;pid=76572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9&amp;vid=1&amp;pid=71957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ppin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Jairo V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1 – corduroy shi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247680" y="3525840"/>
            <a:ext cx="46036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First of all what I did was get the old price and get the new price and then I subtracted 39.99 from 49.50 and got my difference which is 9.51. Then I divided the difference to the original prize and got my percentage of 19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1000" y="3278160"/>
            <a:ext cx="2476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320" y="301680"/>
            <a:ext cx="821052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m #2-Purple two-pocket plaid sh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4"/>
          <p:cNvSpPr/>
          <p:nvPr/>
        </p:nvSpPr>
        <p:spPr>
          <a:xfrm>
            <a:off x="738360" y="3211560"/>
            <a:ext cx="26128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 what I did was get the old price and get the new price and then I subtracted 39.99 from 49.50 and got my difference which is 9.51. Then I divided the difference to the original prize and got my percentage of 19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81800" y="342900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320" y="301680"/>
            <a:ext cx="8210520" cy="11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m #3-Short-sleeved white poplin sh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1498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457200" y="3432240"/>
            <a:ext cx="261288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 what I did was get the old price and get the new price and then I subtracted 27.99 from 39.50 and got my difference which is 11.51. Then I divided the difference to the original prize and got my percentage of 29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33920" y="3432240"/>
            <a:ext cx="20494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#4-Chambray shi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Box 4"/>
          <p:cNvSpPr/>
          <p:nvPr/>
        </p:nvSpPr>
        <p:spPr>
          <a:xfrm>
            <a:off x="457200" y="3354480"/>
            <a:ext cx="302904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 what I did was get the old price and get the new price and then I subtracted 33.99 from 49.50 and got my difference which is 15.51. Then I divided the difference to the original prize and got my percentage of 31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356220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 corduroy shirt for $39.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purple two-pocket plaid shirt for $29.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3-Short-sleeved white poplin shirt for $27.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3-Short-sleeved white poplin shirt for $33.99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o state your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50:12Z</dcterms:modified>
  <cp:revision>6</cp:revision>
  <dc:subject/>
  <dc:title>Write a title here.</dc:title>
</cp:coreProperties>
</file>