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86ED-C575-489D-9BE4-89881273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A998-DC80-4D0C-825A-F11E3C03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5FBE-F7A9-4595-8388-BCDB469B7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043C-C320-4554-8997-E0CC9A1F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F92B-B59C-4D9C-993E-2D5FC3D7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C12C-4B36-412A-BBEB-3F085632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5286-7EC4-441E-9188-4981BC75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D7A0-A7EA-408E-A64E-5202830E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67B7-8496-44BD-A61A-73626FC8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9697-F509-42E2-922F-0544DDF2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FF85-5C97-4EC9-9AAB-415F12BE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2AA9-E51B-4D59-B8AF-D5F50BD8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13DF51-710A-4D81-B7AF-43ED910D3F3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A613C6-3A8D-4AC4-A281-CA1789A6F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279&amp;vid=1&amp;pid=765720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279&amp;vid=1&amp;pid=71957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1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pping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Jairo Ve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m #1 – corduroy shi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240" cy="153792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Box 4"/>
          <p:cNvSpPr/>
          <p:nvPr/>
        </p:nvSpPr>
        <p:spPr>
          <a:xfrm>
            <a:off x="247680" y="3525840"/>
            <a:ext cx="460368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First of all what I did was get the old price and get the new price and then I subtracted 39.99 from 49.50 and got my difference which is 9.51. Then I divided the difference to the original prize and got my percentage of 19%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1000" y="3278160"/>
            <a:ext cx="24768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320" y="301680"/>
            <a:ext cx="821052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em #2-Purple two-pocket plaid shi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229240" cy="153792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Box 4"/>
          <p:cNvSpPr/>
          <p:nvPr/>
        </p:nvSpPr>
        <p:spPr>
          <a:xfrm>
            <a:off x="738360" y="3211560"/>
            <a:ext cx="261288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of all what I did was get the old price and get the new price and then I subtracted 39.99 from 49.50 and got my difference which is 9.51. Then I divided the difference to the original prize and got my percentage of 19%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581800" y="3429000"/>
            <a:ext cx="24764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320" y="301680"/>
            <a:ext cx="8210520" cy="11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em #3-Short-sleeved white poplin shi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14986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Box 4"/>
          <p:cNvSpPr/>
          <p:nvPr/>
        </p:nvSpPr>
        <p:spPr>
          <a:xfrm>
            <a:off x="457200" y="3432240"/>
            <a:ext cx="2612880" cy="31114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of all what I did was get the old price and get the new price and then I subtracted 27.99 from 39.50 and got my difference which is 11.51. Then I divided the difference to the original prize and got my percentage of 29%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33920" y="3432240"/>
            <a:ext cx="20494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m #4-Chambray shi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240" cy="153792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TextBox 4"/>
          <p:cNvSpPr/>
          <p:nvPr/>
        </p:nvSpPr>
        <p:spPr>
          <a:xfrm>
            <a:off x="457200" y="3354480"/>
            <a:ext cx="3029040" cy="31114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of all what I did was get the old price and get the new price and then I subtracted 33.99 from 49.50 and got my difference which is 15.51. Then I divided the difference to the original prize and got my percentage of 31%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3562200"/>
            <a:ext cx="1923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uch did you sp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bought  corduroy shirt for $39.9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bought purple two-pocket plaid shirt for $29.9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bought 3-Short-sleeved white poplin shirt for $27.9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bought 3-Short-sleeved white poplin shirt for $33.99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entence to state your to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ginal P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complete sentences to describe the original prices (The original price of____________  was $_______.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entence to state the total of original pr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saving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entence telling how much you sa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entence stating the percent of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9T20:50:12Z</dcterms:modified>
  <cp:revision>6</cp:revision>
  <dc:subject/>
  <dc:title>Write a title here.</dc:title>
</cp:coreProperties>
</file>