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3BD-A6BD-470B-8740-6BACDE5A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485-5D14-407B-9249-27B4E22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FEE-9AF9-4C62-9C45-0B7BEBD6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090-7DBB-4A77-8321-4E4D5634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626-57F0-40DD-969D-B4AC1C07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F19-0098-45C2-A248-F4683013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F65-F17F-4B92-81D1-13F12477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8DF-D12F-4C9C-8F66-9070E7F0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9B9-C294-4991-87A9-63CEDDD5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CA8-43D1-421B-B494-38A27F9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906-4622-4104-9823-8E0887D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A81-2CC8-44C2-A817-A63D9A1C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4AF6F-F182-4295-A030-01FB2D8397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C6EE9-112C-48B8-BCCA-4302716A4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6572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1957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Jairo V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1 – corduroy 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247680" y="3525840"/>
            <a:ext cx="46036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First of all what I did was get the old price and get the new price and then I subtracted 39.99 from 49.50 and got my difference which is 9.51. Then I divided the difference to the original prize and got my percentage of 19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1000" y="327816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680"/>
            <a:ext cx="82105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m #2-Purple two-pocket plaid 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738360" y="321156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39.99 from 49.50 and got my difference which is 9.51. Then I divided the difference to the original prize and got my percentage of 19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81800" y="342900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301680"/>
            <a:ext cx="821052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m #3-Short-sleeved white poplin 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49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432240"/>
            <a:ext cx="261288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27.99 from 39.50 and got my difference which is 11.51. Then I divided the difference to the original prize and got my percentage of 29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33920" y="3432240"/>
            <a:ext cx="20494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4-Chambray 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354480"/>
            <a:ext cx="302904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33.99 from 49.50 and got my difference which is 15.51. Then I divided the difference to the original prize and got my percentage of 31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35622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 corduroy shirt for $39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purple two-pocket plaid shirt for $29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3-Short-sleeved white poplin shirt for $27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3-Short-sleeved white poplin shirt for $33.9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0:12Z</dcterms:modified>
  <cp:revision>6</cp:revision>
  <dc:subject/>
  <dc:title>Write a title here.</dc:title>
</cp:coreProperties>
</file>