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DC5A9-E030-4310-ACBA-52F858897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035BC-C3D7-48DB-AB04-04AE2F068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6B803-C8B7-496B-9238-3A1A96D07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90F0C-EEE8-435D-B493-6BEA68658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373DD-6814-461E-83DD-4EB1FDE9B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F1C3A-D616-4EB6-93E5-45F9846D4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ECA15-72DA-4FD1-8B44-9628FBCA9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F01C6-E83C-4BF5-9932-C23C0BED8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EF2E3-AFEB-4440-A3B2-0CB15446C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AE7A8-5D23-484D-901B-B3C8169BE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FA4F6-3188-423A-A76B-A927D1302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9876B-5354-4AC7-92AD-7F40B6048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7F53CE6-623C-4E9E-9382-2DEC58D31D4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9D98F08-9A1A-45EE-A717-38CE0D446F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gap.com/browse/product.do?cid=26281&amp;vid=1&amp;pid=591490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aeropostale.com/product/index.jsp?productId=4097325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aeropostale.com/product/index.jsp?productId=4175466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nio mix 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hopping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rite your name her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93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hir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457200" y="1600200"/>
          <a:ext cx="8229600" cy="150804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75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riginal Pr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ew Pr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fferen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rcent of Chang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32.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14.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17.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" name="TextBox 4"/>
          <p:cNvSpPr/>
          <p:nvPr/>
        </p:nvSpPr>
        <p:spPr>
          <a:xfrm>
            <a:off x="457200" y="3981600"/>
            <a:ext cx="2612880" cy="2288520"/>
          </a:xfrm>
          <a:prstGeom prst="rect">
            <a:avLst/>
          </a:prstGeom>
          <a:solidFill>
            <a:srgbClr val="ffffff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rst I found the difference in subtract the original price by the new price.2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i divide the difference by the original pr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alibri"/>
              </a:rPr>
              <a:t>rd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and I found the pecent of chang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400640" y="3724200"/>
            <a:ext cx="192384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81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lack shir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457200" y="1600200"/>
          <a:ext cx="8229600" cy="150804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75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riginal Pr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ew Pr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fferen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rcent of Chang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39.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7.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31.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.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" name="TextBox 4"/>
          <p:cNvSpPr/>
          <p:nvPr/>
        </p:nvSpPr>
        <p:spPr>
          <a:xfrm>
            <a:off x="457200" y="3981600"/>
            <a:ext cx="261288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alibri"/>
              </a:rPr>
              <a:t>st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I subtract 39.50 -7.99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I divide 31.51-39.50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alibri"/>
              </a:rPr>
              <a:t>rd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I found the percent of chang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" descr="Rugby Finals Slub Jersey Polo - Aéropostale®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896000" y="3546360"/>
            <a:ext cx="1733400" cy="20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odi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457200" y="1600200"/>
          <a:ext cx="8229600" cy="150804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75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riginal Pr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ew Pr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fferen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rcent of Chang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49.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19.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29.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3" name="TextBox 4"/>
          <p:cNvSpPr/>
          <p:nvPr/>
        </p:nvSpPr>
        <p:spPr>
          <a:xfrm>
            <a:off x="457200" y="3981600"/>
            <a:ext cx="2612880" cy="1465560"/>
          </a:xfrm>
          <a:prstGeom prst="rect">
            <a:avLst/>
          </a:prstGeom>
          <a:solidFill>
            <a:srgbClr val="ffffff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alibri"/>
              </a:rPr>
              <a:t>st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I subtract the original price by the new price 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divide difference by original price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alibri"/>
              </a:rPr>
              <a:t>rd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I found the percent 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" descr="Fade Out Zip-Front Hoodie - Aéropostale®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127400" y="3220920"/>
            <a:ext cx="29926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lack Watch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57200" y="1600200"/>
          <a:ext cx="8229600" cy="150804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75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riginal Pr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ew Pr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fferen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rcent of Chang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39.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24.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14.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" name="TextBox 4"/>
          <p:cNvSpPr/>
          <p:nvPr/>
        </p:nvSpPr>
        <p:spPr>
          <a:xfrm>
            <a:off x="457200" y="3981600"/>
            <a:ext cx="2612880" cy="1739880"/>
          </a:xfrm>
          <a:prstGeom prst="rect">
            <a:avLst/>
          </a:prstGeom>
          <a:solidFill>
            <a:srgbClr val="ffffff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alibri"/>
              </a:rPr>
              <a:t>st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I subtract the original price by the new pric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I divide the difference by the original pric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alibri"/>
              </a:rPr>
              <a:t>rd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I found the percent of chang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" descr="Block Metal Watch - Aéropostale®"/>
          <p:cNvPicPr/>
          <p:nvPr/>
        </p:nvPicPr>
        <p:blipFill>
          <a:blip r:embed="rId1"/>
          <a:stretch/>
        </p:blipFill>
        <p:spPr>
          <a:xfrm>
            <a:off x="4314960" y="3179880"/>
            <a:ext cx="3676680" cy="344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w much did you spend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bought a shirt for $14.99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bought a Black shirt for $7.9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bought a Hoodie for $19.9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bought a watch for $24.9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riginal Pri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The original price of_shirt___________  was $_32.50______....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The original price of black shirt was $39.5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The original price of the hoodie was$49.5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The original price of the watch was $39.5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y savings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saved $93.04 f0r all cloth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6T16:16:13Z</dcterms:created>
  <dc:creator>Teacher</dc:creator>
  <dc:description/>
  <dc:language>en-US</dc:language>
  <cp:lastModifiedBy>tech</cp:lastModifiedBy>
  <dcterms:modified xsi:type="dcterms:W3CDTF">2010-10-28T17:58:20Z</dcterms:modified>
  <cp:revision>4</cp:revision>
  <dc:subject/>
  <dc:title>Write a title here.</dc:title>
</cp:coreProperties>
</file>