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C992-CD92-4BB5-AEB9-0D46990C1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3744-9EEA-4D5C-8DFF-28534DA4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F80F-649B-4FFD-BBAB-51B149C9D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28B4-2490-4B3C-8EC6-D3A6AE3B7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10AB-F9F5-439F-8A44-48ABD224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A11C-5EF8-42D7-B964-15C1B63B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C15C-56C0-4A3D-855C-A9C67167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F0CF-A680-44A8-8CA6-A81C15DA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E1AC-1013-468F-B363-8A35696E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7446-031B-4583-9133-E861821F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66C3-A8DC-4C91-85C2-A6BC48CB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595F-B8B7-4464-AA10-190F8273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C20705-B978-4B22-B03F-A974A94CB8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BA7B57-D747-4EA3-AAC4-D4F957478F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281&amp;vid=1&amp;pid=591490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eropostale.com/product/index.jsp?productId=4097325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eropostale.com/product/index.jsp?productId=4175466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nio mix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hopp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rite your name h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93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i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2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4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7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Box 4"/>
          <p:cNvSpPr/>
          <p:nvPr/>
        </p:nvSpPr>
        <p:spPr>
          <a:xfrm>
            <a:off x="457200" y="3981600"/>
            <a:ext cx="261288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st I found the difference in subtract the original price by the new price.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 divide the difference by the original pr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I found the pecent of chan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00640" y="3724200"/>
            <a:ext cx="19238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81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ack shi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7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1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.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Box 4"/>
          <p:cNvSpPr/>
          <p:nvPr/>
        </p:nvSpPr>
        <p:spPr>
          <a:xfrm>
            <a:off x="457200" y="3981600"/>
            <a:ext cx="26128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 subtract 39.50 -7.9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 divide 31.51-39.5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 found the percent of chan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Rugby Finals Slub Jersey Polo - Aéropostale®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96000" y="3546360"/>
            <a:ext cx="17334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od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9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TextBox 4"/>
          <p:cNvSpPr/>
          <p:nvPr/>
        </p:nvSpPr>
        <p:spPr>
          <a:xfrm>
            <a:off x="457200" y="3981600"/>
            <a:ext cx="261288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 subtract the original price by the new price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divide difference by original pric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 found the percent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Fade Out Zip-Front Hoodie - Aéropostale®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27400" y="3220920"/>
            <a:ext cx="29926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ack Watch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4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4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Box 4"/>
          <p:cNvSpPr/>
          <p:nvPr/>
        </p:nvSpPr>
        <p:spPr>
          <a:xfrm>
            <a:off x="457200" y="3981600"/>
            <a:ext cx="26128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 subtract the original price by the new pr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 divide the difference by the original pr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 found the percent of chan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Block Metal Watch - Aéropostale®"/>
          <p:cNvPicPr/>
          <p:nvPr/>
        </p:nvPicPr>
        <p:blipFill>
          <a:blip r:embed="rId1"/>
          <a:stretch/>
        </p:blipFill>
        <p:spPr>
          <a:xfrm>
            <a:off x="4314960" y="3179880"/>
            <a:ext cx="3676680" cy="34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did you spen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bought a shirt for $14.9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bought a Black shirt for $7.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bought a Hoodie for $19.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bought a watch for $24.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iginal Pr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The original price of_shirt___________  was $_32.50______..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The original price of black shirt was $39.5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The original price of the hoodie was$49.5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The original price of the watch was $39.5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saving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saved $93.04 f0r all clot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0-28T17:58:20Z</dcterms:modified>
  <cp:revision>4</cp:revision>
  <dc:subject/>
  <dc:title>Write a title here.</dc:title>
</cp:coreProperties>
</file>