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2452-ED92-47DA-A3E9-77AAE695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D1B2-F67E-4213-902A-A32BDCA2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E38F-2A77-476C-BE4E-B03DE5AC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2E5C-E2EB-4D0E-8E95-C3E25EDD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14D2-4F76-48F8-A2E6-5492095F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0F5A-11F6-460F-AC26-49412C4F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5EDF-FB05-4BCB-A7DD-0B52C598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4468-45D0-443C-93DF-E01212B2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6010-668F-4147-A94E-8B29A9B0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9023-2C07-4A92-BA22-0629BD6D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7D8C-FD7B-46ED-8D44-CC139917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4DA1-8AF1-4DC9-A53A-EE19D864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04A922-EE15-496C-991C-7A4E7679AD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EDD11B-1A07-4B64-B4AE-193022498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81&amp;vid=1&amp;pid=591490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097325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175466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nio mix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opp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93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i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2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4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7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I found the difference in subtract the original price by the new price.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divide the difference by the original pr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I found the pecent of chan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00640" y="3724200"/>
            <a:ext cx="1923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81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ack shi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subtract 39.50 -7.9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divide 31.51-39.5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found the percent of chan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Rugby Finals Slub Jersey Polo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96000" y="3546360"/>
            <a:ext cx="17334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od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9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Box 4"/>
          <p:cNvSpPr/>
          <p:nvPr/>
        </p:nvSpPr>
        <p:spPr>
          <a:xfrm>
            <a:off x="457200" y="3981600"/>
            <a:ext cx="261288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subtract the original price by the new price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ivide difference by original pric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found the percent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Fade Out Zip-Front Hoodie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27400" y="3220920"/>
            <a:ext cx="29926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ack Watc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4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4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Box 4"/>
          <p:cNvSpPr/>
          <p:nvPr/>
        </p:nvSpPr>
        <p:spPr>
          <a:xfrm>
            <a:off x="457200" y="3981600"/>
            <a:ext cx="26128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subtract the original price by the new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divide the difference by the original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found the percent of chan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Block Metal Watch - Aéropostale®"/>
          <p:cNvPicPr/>
          <p:nvPr/>
        </p:nvPicPr>
        <p:blipFill>
          <a:blip r:embed="rId1"/>
          <a:stretch/>
        </p:blipFill>
        <p:spPr>
          <a:xfrm>
            <a:off x="4314960" y="3179880"/>
            <a:ext cx="367668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did you sp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bought a shirt for $14.9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bought a Black shirt for $7.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bought a Hoodie for $19.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bought a watch for $24.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iginal Pr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he original price of_shirt___________  was $_32.50______.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he original price of black shirt was $39.5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he original price of the hoodie was$49.5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he original price of the watch was $39.5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saving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saved $93.04 f0r all clo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percent of change was 42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0-29T11:32:09Z</dcterms:modified>
  <cp:revision>5</cp:revision>
  <dc:subject/>
  <dc:title>Write a title here.</dc:title>
</cp:coreProperties>
</file>