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7E4C-782A-412A-B23D-0BF779C04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A811-356E-4564-BC87-0FBDF800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F2ED-A746-4746-8283-908BF01EC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9635-20D1-46F9-AC01-B7272E317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1DB6-92D5-4E10-9CDE-2C75FA00C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D27C-4D91-4969-B3D0-00B261968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9116-7C78-4512-A9A5-BA5192D3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032B-D620-41F8-AF99-9A78A3231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50C8-E2F2-4459-B1EE-BBA41C4AC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66A6-650E-4D1B-BF29-44204883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D95A-46EB-46F2-BDD3-8800E75C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5775-B3EC-4EDE-A357-77C2C7AC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F8822E-796C-4214-A163-105B91DD42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9D350D-C8D2-4162-B3B9-1E8A8F1B04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ap.com/browse/product.do?cid=26281&amp;vid=1&amp;pid=591490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eropostale.com/product/index.jsp?productId=4097325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eropostale.com/product/index.jsp?productId=4175466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nio mix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hopp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e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93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i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8229600" cy="1508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2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4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7.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TextBox 4"/>
          <p:cNvSpPr/>
          <p:nvPr/>
        </p:nvSpPr>
        <p:spPr>
          <a:xfrm>
            <a:off x="457200" y="3981600"/>
            <a:ext cx="2612880" cy="228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st I found the difference in subtract the original price by the new price.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 divide the difference by the original pr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nd I found the pecent of chang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00640" y="3724200"/>
            <a:ext cx="19238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81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lack shi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600200"/>
          <a:ext cx="8229600" cy="1508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9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7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1.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.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TextBox 4"/>
          <p:cNvSpPr/>
          <p:nvPr/>
        </p:nvSpPr>
        <p:spPr>
          <a:xfrm>
            <a:off x="457200" y="3981600"/>
            <a:ext cx="261288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 subtract 39.50 -7.99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 divide 31.51-39.5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 found the percent of chang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Rugby Finals Slub Jersey Polo - Aéropostale®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96000" y="3546360"/>
            <a:ext cx="17334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od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600200"/>
          <a:ext cx="8229600" cy="1508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9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9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9.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TextBox 4"/>
          <p:cNvSpPr/>
          <p:nvPr/>
        </p:nvSpPr>
        <p:spPr>
          <a:xfrm>
            <a:off x="457200" y="3981600"/>
            <a:ext cx="261288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 subtract the original price by the new price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divide difference by original pric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 found the percent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Fade Out Zip-Front Hoodie - Aéropostale®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27400" y="3220920"/>
            <a:ext cx="29926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lack Watch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600200"/>
          <a:ext cx="8229600" cy="1508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9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4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4.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TextBox 4"/>
          <p:cNvSpPr/>
          <p:nvPr/>
        </p:nvSpPr>
        <p:spPr>
          <a:xfrm>
            <a:off x="457200" y="3981600"/>
            <a:ext cx="261288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 subtract the original price by the new pri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 divide the difference by the original pri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 found the percent of chang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Block Metal Watch - Aéropostale®"/>
          <p:cNvPicPr/>
          <p:nvPr/>
        </p:nvPicPr>
        <p:blipFill>
          <a:blip r:embed="rId1"/>
          <a:stretch/>
        </p:blipFill>
        <p:spPr>
          <a:xfrm>
            <a:off x="4314960" y="3179880"/>
            <a:ext cx="3676680" cy="34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did you spen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bought a shirt for $14.9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bought a Black shirt for $7.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bought a Hoodie for $19.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bought a watch for $24.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riginal Pr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The original price of_shirt___________  was $_32.50______...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The original price of black shirt was $39.5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The original price of the hoodie was$49.5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The original price of the watch was $39.5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saving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saved $93.04 f0r all cloth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 percent of change was 42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6:16:13Z</dcterms:created>
  <dc:creator>Teacher</dc:creator>
  <dc:description/>
  <dc:language>en-US</dc:language>
  <cp:lastModifiedBy>tech</cp:lastModifiedBy>
  <dcterms:modified xsi:type="dcterms:W3CDTF">2010-10-29T11:32:09Z</dcterms:modified>
  <cp:revision>5</cp:revision>
  <dc:subject/>
  <dc:title>Write a title here.</dc:title>
</cp:coreProperties>
</file>