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E25-A186-4705-B94A-FF23B341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86B-8993-47BA-B012-0EECCA42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045-71BF-42AE-B9D1-9BEB0F25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4FE-0977-4275-BECC-403D12DD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723-B665-4BC6-A8EB-28425530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6F6-5F96-404C-90D4-177219F9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655-884A-4F75-A871-666BBF74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EDB-672F-48C5-9BC4-439F8A19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0B8-7AD9-40AD-9A71-339E87B2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32D-43C8-4ACC-A04A-18FABBD1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B62-4A11-4398-A2B7-7A085CFE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01B-5014-4034-BE7E-8ED31ECC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0BA89-45F8-4C6B-BB5B-48AFC19DE9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59989-4AFA-41F9-8825-0E2C535B1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3563544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ffry Shopping project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ffry Gutierre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68440" y="1600200"/>
          <a:ext cx="8118360" cy="1574640"/>
        </p:xfrm>
        <a:graphic>
          <a:graphicData uri="http://schemas.openxmlformats.org/drawingml/2006/table">
            <a:tbl>
              <a:tblPr/>
              <a:tblGrid>
                <a:gridCol w="194616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9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st I Subtract the Original Price. Then I Dived the Difference and it Gave Me a 25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05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em #3   A classic style no guy should be without this spring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1574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6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t I Subtract the Original Price. Then I Dived the Difference and it Gave Me 3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97400" y="338472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asic V-Neck Te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1574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t I Subtract the Original Price. Then I Dived the Difference and it Gave Me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3549600"/>
            <a:ext cx="28386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7T15:30:34Z</dcterms:modified>
  <cp:revision>3</cp:revision>
  <dc:subject/>
  <dc:title>Write a title here.</dc:title>
</cp:coreProperties>
</file>