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3D6-4D25-4BAC-A1C1-07575819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4B2-55F8-425D-9D5E-46438A31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A97-E3DC-4D99-835E-027940AC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7AE-3EDA-4AA0-8CE5-86ED107F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F92-42E3-47FF-9262-76E11CB5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A2F-56E3-4A77-892C-4872F9E3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DF3-511F-4726-90DD-235DFE01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A62-1AFB-4C02-8E12-7CDBC0DD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43A-C494-4EB4-99FF-C24069D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52B-174E-4781-9C74-AC4457D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BB4-4024-43DA-AA63-1EFAF30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782-0691-4CDA-97B7-C018004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0D85B-9E8B-41C1-B443-66985463E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803A7-AA8B-4190-971F-6A8388173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3563544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ffry Shopping project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ffry Gutierre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68440" y="1600200"/>
          <a:ext cx="8118360" cy="1574640"/>
        </p:xfrm>
        <a:graphic>
          <a:graphicData uri="http://schemas.openxmlformats.org/drawingml/2006/table">
            <a:tbl>
              <a:tblPr/>
              <a:tblGrid>
                <a:gridCol w="194616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9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st I Subtract the Original Price. Then I Dived the Difference and it Gave Me a 2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05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em #3   A classic style no guy should be without this spring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157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6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t I Subtract the Original Price. Then I Dived the Difference and it Gave Me 3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97400" y="338472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asic V-Neck Te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157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t I Subtract the Original Price. Then I Dived the Difference and it Gave Me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3549600"/>
            <a:ext cx="28386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7T15:30:34Z</dcterms:modified>
  <cp:revision>3</cp:revision>
  <dc:subject/>
  <dc:title>Write a title here.</dc:title>
</cp:coreProperties>
</file>