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F4F-8AF6-4A45-BCE8-C775D33F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9A5-4DB4-4232-AD7E-016AD1AB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686-4CB3-4B3C-A2A7-46DE5AC6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567-8A7D-438D-AA91-82EDB877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845B-0B4A-4AB3-A62A-26862946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4871-3394-4F78-8488-F47DC54E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B15D-D15B-4FF3-AB13-70CA9DFE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1975-2EE1-4497-9E05-86C6AD39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0955-2557-461F-AF00-8608D7FB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0A68-2C57-4BEE-B8BC-E26D0D3C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0A28-CC08-41E7-B280-1146107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152-5C17-419A-9598-42CAE298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FD94-7A48-412B-BC2B-3FCBFC37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3950-B8A3-47BF-B3C8-61339912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3C83-7D88-4647-8EB5-E6821BFA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7C4B-9775-4811-B68E-99331609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11EB-2BEF-4004-A78F-D19FD156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D63-2136-4D9D-AB1D-379865B2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418-2AD7-40DA-9706-2B1006A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6BA-1430-49F7-9C78-B4D2CB45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15F-EAF8-4B32-9F01-5C0BF119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FA3-9B2A-4FDB-A5B6-EEA9FA0A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964-37C7-4489-B060-8F01D426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785-8342-4043-A8D6-5E58BE65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1A50A-FAC6-4759-A099-C8099A5A9B9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305A3-08F3-4ABE-AC37-0105C001B2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FDE81-6157-4E55-BBE0-15130984AAB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97630-57C7-4AA1-9209-04B623ED42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Jessica in the Mal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Jessica Bar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erican Eagle  T-Shi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9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alibri"/>
              </a:rPr>
              <a:t>I take the difference that is $9.55 and divide for the original price is $39.50 and the answer is 24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" descr="AE Lightweight Plaid Flannel Shirt"/>
          <p:cNvPicPr/>
          <p:nvPr/>
        </p:nvPicPr>
        <p:blipFill>
          <a:blip r:embed="rId1"/>
          <a:stretch/>
        </p:blipFill>
        <p:spPr>
          <a:xfrm>
            <a:off x="4392720" y="3884760"/>
            <a:ext cx="22986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erican Eagle Hood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4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alibri"/>
              </a:rPr>
              <a:t>I take the difference is $4.55 and I divide for the original price is $29.50 and the answer 15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" descr="AE Shawl Collar Graphic Hoodie"/>
          <p:cNvPicPr/>
          <p:nvPr/>
        </p:nvPicPr>
        <p:blipFill>
          <a:blip r:embed="rId1"/>
          <a:stretch/>
        </p:blipFill>
        <p:spPr>
          <a:xfrm>
            <a:off x="4397400" y="3884760"/>
            <a:ext cx="22939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erican Eagle Pol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9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alibri"/>
              </a:rPr>
              <a:t>I take the difference is $4.55 and I divide for the original price is $24.50 and the answer is 18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" descr="AE Striped Long Sleeve T"/>
          <p:cNvPicPr/>
          <p:nvPr/>
        </p:nvPicPr>
        <p:blipFill>
          <a:blip r:embed="rId1"/>
          <a:stretch/>
        </p:blipFill>
        <p:spPr>
          <a:xfrm>
            <a:off x="4397400" y="3981600"/>
            <a:ext cx="22939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erican Eagle Outwe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69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alibri"/>
              </a:rPr>
              <a:t>I take the difference is $9.55 and I divide for original price is $79.50 and the answer is 15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" descr="AE Rugged Bomber Jacket"/>
          <p:cNvPicPr/>
          <p:nvPr/>
        </p:nvPicPr>
        <p:blipFill>
          <a:blip r:embed="rId1"/>
          <a:stretch/>
        </p:blipFill>
        <p:spPr>
          <a:xfrm>
            <a:off x="4397400" y="3981600"/>
            <a:ext cx="2433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n American Eagle  T- Shirt  for $29.55, an American Eagle Hoodies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24.95 , a American Eagle Polos for $19.95 , the last item is an American Eagle Outwear for $69.9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 the discounts I spend $144.4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an American Eagle T-Shirt $39.50,and an American Eagle Hoodies $29.50 , an American Eagle Polos $24.50 , the last item an American Eagle Outwear is $79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is $173.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ved $28.6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ved 16% on cloth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14:49Z</dcterms:modified>
  <cp:revision>4</cp:revision>
  <dc:subject/>
  <dc:title>Write a title here.</dc:title>
</cp:coreProperties>
</file>