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85F-988A-4C88-9E4F-92155B15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A19-F9B0-4792-B83A-40519C0B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80B-97E1-494B-B993-30ED5EC3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2C9-9CA8-4BC9-AB05-65ED6248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BD38-4C7B-496B-9B4B-004164AE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B2FC-8B5D-4E57-8CCE-31FDB9CB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C98A-B240-40B7-8DAB-7B60D94E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0E65-82E2-49E1-928B-7B1E5328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BBC8-2F24-40CF-A4B4-A40C84D6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599B-709C-4243-9E28-3C811C4A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8E4F-D2A9-439F-B621-52089CE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475-EF8E-4792-A2AC-9E85083D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E6D6-365B-4A42-A2D0-5A5988B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0444-806F-460A-958C-9C43F0A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2287-E6E6-4F16-B0D7-18C5ABF6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EAB1-84FA-4A07-AA6C-9D17EB39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3A0D-6DE4-49EC-B1D0-2C84F432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A7B-5F06-4173-999C-93C7824B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42F-9BCC-4D95-86FD-0B1A2895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735-2F8B-4228-A2E0-E56C8E9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901-64DB-484A-AFA4-2F677191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7D4-FA2A-479D-87B9-F0793BA0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18E-EDB3-48EE-B26D-2B576DC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78A-A1DC-433A-8803-E40E60A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5A3C1-1126-495A-BB93-23DC61B00EE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2B82A-E0A8-4CE6-AA82-D870C328CC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BAB02-9CB4-446F-AADE-4AD62A16ABA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52033-514E-436F-96EF-939729EA05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Jessica in the Mal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Jessica Bar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erican Eagle  T-Shi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9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alibri"/>
              </a:rPr>
              <a:t>I take the difference that is $9.55 and divide for the original price is $39.50 and the answer is 24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" descr="AE Lightweight Plaid Flannel Shirt"/>
          <p:cNvPicPr/>
          <p:nvPr/>
        </p:nvPicPr>
        <p:blipFill>
          <a:blip r:embed="rId1"/>
          <a:stretch/>
        </p:blipFill>
        <p:spPr>
          <a:xfrm>
            <a:off x="4392720" y="3884760"/>
            <a:ext cx="22986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erican Eagle Hood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4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alibri"/>
              </a:rPr>
              <a:t>I take the difference is $4.55 and I divide for the original price is $29.50 and the answer 15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" descr="AE Shawl Collar Graphic Hoodie"/>
          <p:cNvPicPr/>
          <p:nvPr/>
        </p:nvPicPr>
        <p:blipFill>
          <a:blip r:embed="rId1"/>
          <a:stretch/>
        </p:blipFill>
        <p:spPr>
          <a:xfrm>
            <a:off x="4397400" y="3884760"/>
            <a:ext cx="22939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erican Eagle Pol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9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alibri"/>
              </a:rPr>
              <a:t>I take the difference is $4.55 and I divide for the original price is $24.50 and the answer is 18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" descr="AE Striped Long Sleeve T"/>
          <p:cNvPicPr/>
          <p:nvPr/>
        </p:nvPicPr>
        <p:blipFill>
          <a:blip r:embed="rId1"/>
          <a:stretch/>
        </p:blipFill>
        <p:spPr>
          <a:xfrm>
            <a:off x="4397400" y="3981600"/>
            <a:ext cx="22939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erican Eagle Outwe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69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alibri"/>
              </a:rPr>
              <a:t>I take the difference is $9.55 and I divide for original price is $79.50 and the answer is 15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" descr="AE Rugged Bomber Jacket"/>
          <p:cNvPicPr/>
          <p:nvPr/>
        </p:nvPicPr>
        <p:blipFill>
          <a:blip r:embed="rId1"/>
          <a:stretch/>
        </p:blipFill>
        <p:spPr>
          <a:xfrm>
            <a:off x="4397400" y="3981600"/>
            <a:ext cx="2433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n American Eagle  T- Shirt  for $29.55, an American Eagle Hoodies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24.95 , a American Eagle Polos for $19.95 , the last item is an American Eagle Outwear for $69.9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 the discounts I spend $144.4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an American Eagle T-Shirt $39.50,and an American Eagle Hoodies $29.50 , an American Eagle Polos $24.50 , the last item an American Eagle Outwear is $79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is $173.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ved $28.6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ved 16% on cloth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14:49Z</dcterms:modified>
  <cp:revision>4</cp:revision>
  <dc:subject/>
  <dc:title>Write a title here.</dc:title>
</cp:coreProperties>
</file>