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9B5-D5F2-43DF-97FB-29D90AD1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D8E-CE92-45E5-AB24-E2E23B1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BC6-77D1-4FBF-93EB-349A3A1D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B7A-BC99-48AB-AEA6-1A47FAD8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071E-E295-4428-85F4-4201F7F9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3079-5E53-417E-B961-CBAB90E1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5399-601E-49EB-877C-1F0EA2D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2657-50AF-4DCC-ADD9-9752BF06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67FC-74D9-4350-B901-6DD96468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639D-4384-4F2C-9BB0-CBFE7FD1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2FE-F77B-4CAB-B4C5-A6C590A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05F-2615-420B-84F2-9EB6CE0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2270-B3EB-4BF7-808D-82C0D3C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6CB2-6E23-48A1-AA65-7CA0C4A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1DDC-34AB-42B5-9A85-9635BA5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C582-4809-49E4-B85D-B4BA6B11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CEC2-3696-400C-89CE-455DA8FE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CC8-D464-440D-A8FF-ACEA41D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786-77C0-40C4-8BD8-A235B74A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8EE-8B4C-410F-B241-A48CA8B2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15E-1919-400D-924B-2EB9F49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12E-0F79-4AE7-873C-30F7A1D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BC5-C112-4F0A-9EFE-123D26E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81C-8FCA-484E-A2C8-45BB7C6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41B7D-6EEA-4440-A8CE-447DD66ABD7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635E4-2EE8-45CC-9915-D37DE1B6F5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33022-DA29-4BB1-A35E-BACD39C2258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28AB5-660D-4799-932B-27F4C2300C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7&amp;vid=1&amp;pid=68494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399501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0241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79508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82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’m Going to shopping 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25520" y="33969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98989"/>
                </a:solidFill>
                <a:latin typeface="Arial"/>
              </a:rPr>
              <a:t>Jonatas Niati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19.51 by 79.50 and got my percentage is 0.2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343044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82872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14.51 by 24.50 and got my percentage is 0.5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" descr="Solid Uniform Piqué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2280" y="370692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4"/>
          <p:cNvSpPr/>
          <p:nvPr/>
        </p:nvSpPr>
        <p:spPr>
          <a:xfrm>
            <a:off x="69696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27.25 by 54.50 and got my percentage is 0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Northwest Graphic Henley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3200" y="390528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i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8.75 by 17.50 and got my percentage is 0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" descr="NY V-Neck Scratched Graphic 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57680" y="3578400"/>
            <a:ext cx="2291040" cy="257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jacket for $59.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jacket for $27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shirt for $8.7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polo for $9.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otal  is $105.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11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jacket is $79.5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shirt is $17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jacket is $54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polo is $24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otal is $17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417680"/>
            <a:ext cx="8364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rite a sentence telling how much you sav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saved ($71) of my original to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’m going to shopping today with a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y teachers. My percent of change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105.98/ $176 = 0.602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40:39Z</dcterms:modified>
  <cp:revision>9</cp:revision>
  <dc:subject/>
  <dc:title>Write a title here.</dc:title>
</cp:coreProperties>
</file>