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8A9-CA8C-45A4-8515-AF573913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4DE-2BC6-44FD-8EBE-7DDD0369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927-1517-450B-B731-48B3EC77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03E-C490-43A9-AC1E-A7F2BA7F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910-788D-469D-8467-1A4272BB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FC92-BD69-4624-90EE-F5B77A2A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84C7-DC37-4875-8A3B-0492B2BE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8467-A62C-4ACE-8474-A3EA7BD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0FA1-1BE6-4C17-82B3-1DDD76B6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B7D2-ACBB-452C-868B-D87805A4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0092-3AB8-430C-A04A-090868E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34A-7C22-4279-8BA3-3E6B078E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3636-8ED6-4295-93CC-DD36657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EB92-FBA4-49C6-B27B-C6652DE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600D-65DC-49B4-8CB8-3877EDE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C506-192A-4DEB-8E0E-8A83FBBF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1B2-375E-4423-8F88-0194B614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B36-63F1-4D69-B138-B630E1F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48E-2793-47C6-BC22-89A61DF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9C4-429E-4870-B3B0-F68AB2A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689-48A2-4273-A108-F5B197A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2AF-54E6-4578-BD16-503712F1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19A-C25A-4BFE-9B66-2D5B5868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690-BA69-40F8-8004-59A4046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418D5-0EC8-4A8B-A919-25FA953CDA8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A41BC-B1C3-498A-B535-52138FD51E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884C6-9A03-4D74-8CF8-5F8FDB646B0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EEF6D-DE34-4C60-B8CD-9ECEBBE84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7&amp;vid=1&amp;pid=68494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399501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0241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79508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82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’m Going to shopping 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25520" y="33969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98989"/>
                </a:solidFill>
                <a:latin typeface="Arial"/>
              </a:rPr>
              <a:t>Jonatas Niati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19.51 by 79.50 and got my percentage is 0.2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343044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82872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14.51 by 24.50 and got my percentage is 0.5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" descr="Solid Uniform Piqué Polo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2280" y="370692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4"/>
          <p:cNvSpPr/>
          <p:nvPr/>
        </p:nvSpPr>
        <p:spPr>
          <a:xfrm>
            <a:off x="69696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27.25 by 54.50 and got my percentage is 0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Northwest Graphic Henley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3200" y="390528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i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240" cy="15411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Box 4"/>
          <p:cNvSpPr/>
          <p:nvPr/>
        </p:nvSpPr>
        <p:spPr>
          <a:xfrm>
            <a:off x="457200" y="3981600"/>
            <a:ext cx="2612880" cy="192276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 divided 8.75 by 17.50 and got my percentage is 0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" descr="NY V-Neck Scratched Graphic 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57680" y="3578400"/>
            <a:ext cx="2291040" cy="257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jacket for $59.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jacket for $27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shirt for $8.7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ught a polo for $9.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otal  is $105.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11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jacket is $79.5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shirt is $17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jacket is $54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price of the polo is $24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otal is $17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417680"/>
            <a:ext cx="8364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rite a sentence telling how much you sav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saved ($71) of my original to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’m going to shopping today with a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y teachers. My percent of change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105.98/ $176 = 0.602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40:39Z</dcterms:modified>
  <cp:revision>9</cp:revision>
  <dc:subject/>
  <dc:title>Write a title here.</dc:title>
</cp:coreProperties>
</file>