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8563-FFB9-4FA2-89B0-ECE7B417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88CA-5C2C-4079-A94F-3D6AB4AA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5BA-6272-4180-AC86-11912D4A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16B-C2F4-4FD7-B928-F9A5042A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CD15-2683-4D6B-A1B6-0254B6A9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3A2-8C8E-4E7A-BD97-5FAC54CD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8E85-1BFA-4BB1-A62A-172A32DF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25F-4A70-48B9-B582-44C9F6D3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22B-0146-4019-9886-E16673E5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362-154B-4075-AFDA-5E5B39A9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7B2B-3CA6-4C60-9BFA-C91ED84C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AA3-88CC-46F0-A702-987E1D87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61B67-6B5A-4285-8995-A4A006A833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D74D7-4C1A-47DE-BEA2-A1738D2FA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a title her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Write your name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 divide the Difference,$9.55 than the original price $39.50 and got my answer to be 0.2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5850000" y="4349880"/>
            <a:ext cx="84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AE Soft Jegging"/>
          <p:cNvPicPr/>
          <p:nvPr/>
        </p:nvPicPr>
        <p:blipFill>
          <a:blip r:embed="rId1"/>
          <a:stretch/>
        </p:blipFill>
        <p:spPr>
          <a:xfrm>
            <a:off x="5297400" y="3262320"/>
            <a:ext cx="27878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Box 4"/>
          <p:cNvSpPr/>
          <p:nvPr/>
        </p:nvSpPr>
        <p:spPr>
          <a:xfrm>
            <a:off x="457200" y="3981600"/>
            <a:ext cx="26128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divide the Difference,$9.55 than the original price $39.50 and got my answer to be 0.2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5064120" y="4133880"/>
            <a:ext cx="2612880" cy="48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AE Striped Graphic Hoodie"/>
          <p:cNvPicPr/>
          <p:nvPr/>
        </p:nvPicPr>
        <p:blipFill>
          <a:blip r:embed="rId1"/>
          <a:stretch/>
        </p:blipFill>
        <p:spPr>
          <a:xfrm>
            <a:off x="4986360" y="3249720"/>
            <a:ext cx="2798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9.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4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4"/>
          <p:cNvSpPr/>
          <p:nvPr/>
        </p:nvSpPr>
        <p:spPr>
          <a:xfrm>
            <a:off x="457200" y="3981600"/>
            <a:ext cx="26128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divide the Difference,$4.55 than the original price $29.50 and got my answer to be 0.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5064120" y="4133880"/>
            <a:ext cx="26128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opy a picture of your item 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Delete this bo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AE Shawl Collar Graphic Hoodie"/>
          <p:cNvPicPr/>
          <p:nvPr/>
        </p:nvPicPr>
        <p:blipFill>
          <a:blip r:embed="rId1"/>
          <a:stretch/>
        </p:blipFill>
        <p:spPr>
          <a:xfrm>
            <a:off x="4952880" y="3308400"/>
            <a:ext cx="28321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1538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9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9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he Price Stays The Same To $49.5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Jegging"/>
          <p:cNvPicPr/>
          <p:nvPr/>
        </p:nvPicPr>
        <p:blipFill>
          <a:blip r:embed="rId1"/>
          <a:stretch/>
        </p:blipFill>
        <p:spPr>
          <a:xfrm>
            <a:off x="5672160" y="3244680"/>
            <a:ext cx="2395440" cy="30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topped by American Aagle Store an bought Myself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E Striped Graphic Hood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or $39.50....I find out it was in Sale .!For 24% Off . Only $9.55 Was Toke Off. Now the New Price is $29.95..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omplete sentences to describe the original prices (The original price of____________  was $_______.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to state the total of original p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telling how much you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stating the percent of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9T20:20:19Z</dcterms:modified>
  <cp:revision>6</cp:revision>
  <dc:subject/>
  <dc:title>Write a title here.</dc:title>
</cp:coreProperties>
</file>