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A70-F836-40E0-ADD3-FBBC6A93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F2B-EBE8-4A5A-9C61-E367AB6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196-14EE-43A0-866B-3396B148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D2C-3001-4875-A556-4F252F9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FC1-95F8-4484-9AD6-F424119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FC6-7E2D-4546-BDAA-1A1CFD1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18D-855E-44A4-BE2C-46C4E62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0A4-0CA3-496E-A128-166B3428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1EE-DA3E-4BB9-9FC4-0C3E708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47A-D570-4457-91B3-0FBA503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334-9B2E-478B-AAC0-87745C0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383-4164-40DD-B6AD-FB9E40F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821AC-BF19-47AA-BF03-FB22A27464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3A4A1-0E52-4668-8ED6-13BAD30C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title 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divide the Difference,$9.55 than the original price $39.50 and got my answer to be 0.2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850000" y="4349880"/>
            <a:ext cx="84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AE Soft Jegging"/>
          <p:cNvPicPr/>
          <p:nvPr/>
        </p:nvPicPr>
        <p:blipFill>
          <a:blip r:embed="rId1"/>
          <a:stretch/>
        </p:blipFill>
        <p:spPr>
          <a:xfrm>
            <a:off x="5297400" y="3262320"/>
            <a:ext cx="2787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ivide the Difference,$9.55 than the original price $39.50 and got my answer to be 0.2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64120" y="4133880"/>
            <a:ext cx="2612880" cy="48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AE Striped Graphic Hoodie"/>
          <p:cNvPicPr/>
          <p:nvPr/>
        </p:nvPicPr>
        <p:blipFill>
          <a:blip r:embed="rId1"/>
          <a:stretch/>
        </p:blipFill>
        <p:spPr>
          <a:xfrm>
            <a:off x="4986360" y="3249720"/>
            <a:ext cx="2798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457200" y="3981600"/>
            <a:ext cx="2612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ivide the Difference,$4.55 than the original price $29.50 and got my answer to be 0.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064120" y="4133880"/>
            <a:ext cx="26128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py a picture of your item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lete this b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AE Shawl Collar Graphic Hoodie"/>
          <p:cNvPicPr/>
          <p:nvPr/>
        </p:nvPicPr>
        <p:blipFill>
          <a:blip r:embed="rId1"/>
          <a:stretch/>
        </p:blipFill>
        <p:spPr>
          <a:xfrm>
            <a:off x="4952880" y="3308400"/>
            <a:ext cx="2832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1538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Price Stays The Same To $49.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Jegging"/>
          <p:cNvPicPr/>
          <p:nvPr/>
        </p:nvPicPr>
        <p:blipFill>
          <a:blip r:embed="rId1"/>
          <a:stretch/>
        </p:blipFill>
        <p:spPr>
          <a:xfrm>
            <a:off x="5672160" y="3244680"/>
            <a:ext cx="239544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topped by American Aagle Store an bought Mysel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 Striped Graphic Hood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$39.50....I find out it was in Sale .!For 24% Off . Only $9.55 Was Toke Off. Now the New Price is $29.95.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20:19Z</dcterms:modified>
  <cp:revision>6</cp:revision>
  <dc:subject/>
  <dc:title>Write a title here.</dc:title>
</cp:coreProperties>
</file>