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E4C-B9CE-4605-9C1B-F58C3F81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F60D-C45A-481E-B4B3-1A8C2D71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FF9-02D0-4F09-9C08-1F32EB93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0DB-F363-4560-8F28-9C4099FF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85DD-7D73-44DB-A9B6-B1A86D75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D354-811F-4088-91EE-AB8979AC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F75F-C6C9-4552-AA43-B0D21456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F44B-1E97-4AAB-B4A2-6A77D75C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C390-BB49-4F78-BBB9-DED1EEF5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A4E6-776A-47A4-935D-8C151A71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3467-2620-489B-9B33-8224A118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DB1-E10C-420B-AF68-E4B4332A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B4A5-AB98-4033-9758-1A067210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DEC8-D2C2-4218-B6F8-1BF416B1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F647-24C9-48E0-AEB1-EA8C7BAE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E51C-B92B-48E1-B47F-D5FB9804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0CFD-0CFF-4DB3-B5C1-C6886412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CA56-6971-4689-BCA4-82872959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DC8-678D-4A56-8B67-34A5AA8B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708E-0ACF-4413-907A-A6744885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EEE1-6306-4771-9669-1EC1E4AF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0707-1833-42A2-A880-910BAA51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709-BF67-4C86-84BB-5C5C22C1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6D1-0F4C-486F-9116-83AE2160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17A7D-D31E-4FF3-A9F9-989BB916253C}" type="datetime">
              <a:rPr b="0" lang="en-US" sz="1200" spc="-1" strike="noStrike">
                <a:solidFill>
                  <a:srgbClr val="ffff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20810-C088-43D7-B091-C19E8E0B149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A9E09-2B41-411A-9A05-D00A6D6AF8F4}" type="datetime">
              <a:rPr b="0" lang="en-US" sz="1200" spc="-1" strike="noStrike">
                <a:solidFill>
                  <a:srgbClr val="ffff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6DE1B7-C53D-43D7-B6DE-49201ABFE8F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ap.com/browse/product.do?cid=5216&amp;vid=1&amp;pid=750202&amp;scid=750202002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ap.com/browse/product.do?cid=26273&amp;vid=1&amp;pid=715507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ldnavy.gap.com/browse/product.do?cid=26062&amp;vid=1&amp;pid=797041&amp;scid=797041012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Kamran Shopping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73600"/>
            <a:ext cx="6400800" cy="17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Garamond"/>
              </a:rPr>
              <a:t>Kamr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ol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600200"/>
          <a:ext cx="8229240" cy="15285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3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2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1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006666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ided difference price-$14.51 on original price-$39.50. And that is I find how many percen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572000" y="41655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4397400" y="4317840"/>
            <a:ext cx="229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362268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Jean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29240" cy="15285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5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37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16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006666"/>
          </a:solidFill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ided difference price-$16.51 on original price-$54.50. And that is I find how many percent 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97400" y="361800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dida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229240" cy="15285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7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5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10.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006666"/>
          </a:solidFill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ided difference-$10.01 on original price-$70.00. And that is I find how many percen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397400" y="3736800"/>
            <a:ext cx="19242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uterwea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600200"/>
          <a:ext cx="8229240" cy="15285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7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45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006666"/>
          </a:solidFill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ided difference- $34 on original price-$79.50. And that is I find how many percen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97400" y="364320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How much did you spend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buy the Polo for $24.99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buy the Jeans for $37.99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buy the Adidas for $59.99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buy the outerwear for $45.50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total is $168.4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riginal Pric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original price Polo is $39.5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original price Jeans is $54.5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original price Adidas is $70.0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original price Outerwear is $79.5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total is $243.5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y savings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save $75.0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save 30% on clot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6:21:47Z</dcterms:modified>
  <cp:revision>4</cp:revision>
  <dc:subject/>
  <dc:title>Write a title here.</dc:title>
</cp:coreProperties>
</file>