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15E-0CB7-4583-981D-F33FC470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B24-5242-4256-96D9-4AE3F0C3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D97-0494-4DC3-8E8B-781B9DAB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AB4-E09D-492D-AABE-D7F09C0B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A04C-F76D-46FF-974F-DDA8B480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5958-8B00-48CE-8DB1-62147C7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A598-CE88-4D86-A226-2012F51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3814-1F74-441A-83D4-F9AF813D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065B-CDA0-4548-8DA6-1EF3BA32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C126-AEF0-4A5B-8CF4-60A0940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EDF3-CB4F-4AFB-9E9B-F584F10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AA3-2909-4D30-8B0C-70BBE72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E9B-4B21-4DA2-8951-4412065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7857-B7FA-4724-8F51-3699AFE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06C-0E12-4CC5-8B11-C1698B6A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5892-569B-4417-8AC7-AFB4283D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3786-7E8F-4A8B-BCCC-27575E9C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335-0DC9-4971-91C1-08503E0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3A4-E2BF-461F-8CD0-7440B69A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9F5-F9C0-40C2-8599-C49864E0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262-1FDE-4C18-9535-AC9D631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65A-C80A-4BE6-A506-9CA95991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EE4-EE51-48C1-B82B-4B33E47D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5FF-55E0-4E0B-9D77-4E55488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D1C11-D47D-46C6-8B78-2C6E9FD49308}" type="datetime">
              <a:rPr b="0" lang="en-US" sz="1200" spc="-1" strike="noStrike">
                <a:solidFill>
                  <a:srgbClr val="ffff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8B724-B228-4C7B-93F3-C19923350E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859D5-CF2C-4849-BEC4-F35ED1922444}" type="datetime">
              <a:rPr b="0" lang="en-US" sz="1200" spc="-1" strike="noStrike">
                <a:solidFill>
                  <a:srgbClr val="ffff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AE9AC-434D-4E2A-94AC-BC97643F58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ap.com/browse/product.do?cid=5216&amp;vid=1&amp;pid=750202&amp;scid=750202002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ap.com/browse/product.do?cid=26273&amp;vid=1&amp;pid=715507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ldnavy.gap.com/browse/product.do?cid=26062&amp;vid=1&amp;pid=797041&amp;scid=797041012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Kamran Shopping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73600"/>
            <a:ext cx="640080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aramond"/>
              </a:rPr>
              <a:t>Kamr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l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 price-$14.51 on original price-$39.50. And that is I find how many perc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41655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397400" y="4317840"/>
            <a:ext cx="22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62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ea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5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37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1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 price-$16.51 on original price-$54.50. And that is I find how many percent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974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did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7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1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-$10.01 on original price-$70.00. And that is I find how many perc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97400" y="3736800"/>
            <a:ext cx="19242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uterwea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240" cy="15285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$45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difference- $34 on original price-$79.50. And that is I find how many perc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97400" y="36432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much did you spend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Polo for $24.99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Jeans for $37.9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Adidas for $59.9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buy the outerwear for $45.50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total is $168.4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riginal Pri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Polo is $39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Jeans is $54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Adidas is $70.0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riginal price Outerwear is $79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total is $243.5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y savings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save $75.0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save 30% on clot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1:47Z</dcterms:modified>
  <cp:revision>4</cp:revision>
  <dc:subject/>
  <dc:title>Write a title here.</dc:title>
</cp:coreProperties>
</file>