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6C8-959B-4E70-913A-E6E35FD8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584-D85A-48E6-BBF1-C13AEF73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1DF-C5D7-471D-9251-43E9A199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659-5478-4F8F-89E5-02C64724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9446-B536-48EE-9A8F-E68DB769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8F6D-6C0D-4C54-A9B0-2BBA44A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2738-1DE2-41E3-9FF7-C9E530BE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73BA-4C7A-4776-81E0-5C289990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5033-19A6-41AA-948C-C954D5A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99FA-746D-4FD8-8FE1-CACB2C5E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B766-1E55-4DAE-8B26-BF2B8CBA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8DF-B5FB-4991-B4D3-1F18E751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831C-F9F3-4F1F-97EF-44BEDA9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B55A-242F-45FA-B004-2D86E39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97F4-F0E5-428D-AE0F-8887B891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028A-66A1-46EA-8AF9-345205CD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FA0-28E7-413F-A3E4-D2E2437E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F93-1C00-4526-85B7-569019BF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94F-A987-4055-A91A-38356644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766-438F-4E5D-9F53-A1B9710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3D2-95DE-4807-88F1-056F25E3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468-A05D-41A1-9A49-D9598F71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E43-8B04-4CF1-A76F-490BD8E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74A-71A8-472D-9F9C-F1179EE4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3E4A5-A478-4F65-839A-E8ACDBDAA03A}" type="datetime">
              <a:rPr b="0" lang="en-US" sz="1400" spc="-1" strike="noStrike">
                <a:solidFill>
                  <a:srgbClr val="003366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7C779-17DF-469D-ACCC-7BC80776D3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1FA4A-67A9-4FE0-B7E3-D9EB87B1507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0A3FB-DBCB-4777-A246-92C5F90CCF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19313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2218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aeropostale.com/product/index.jsp?productId=4286477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rcent Change Assig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2960"/>
            <a:ext cx="598464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Lawrence Che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e Graphic Full Zip Hoodi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2362320"/>
          <a:ext cx="7693200" cy="12603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9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Box 4"/>
          <p:cNvSpPr/>
          <p:nvPr/>
        </p:nvSpPr>
        <p:spPr>
          <a:xfrm>
            <a:off x="457200" y="3981600"/>
            <a:ext cx="2612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d the difference between the original price and the new price. Next  I divided the difference price by the original price to get the percent of change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99" name="" descr="AE Graphic Full Zip Hoodie"/>
          <p:cNvPicPr/>
          <p:nvPr/>
        </p:nvPicPr>
        <p:blipFill>
          <a:blip r:embed="rId1"/>
          <a:stretch/>
        </p:blipFill>
        <p:spPr>
          <a:xfrm>
            <a:off x="5049720" y="3643200"/>
            <a:ext cx="188604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mbre Plaid Woven Shir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2362320"/>
          <a:ext cx="7693200" cy="12603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9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.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Box 4"/>
          <p:cNvSpPr/>
          <p:nvPr/>
        </p:nvSpPr>
        <p:spPr>
          <a:xfrm>
            <a:off x="457200" y="3981600"/>
            <a:ext cx="2612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d the difference between the original price and the new price. Second I divided the difference price by the original price to get the percent of change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3" name="" descr="Ombre Plaid Woven Shir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2520" y="3894120"/>
            <a:ext cx="17337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ld My Zip Front-Hoodi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362320"/>
          <a:ext cx="7693200" cy="12603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4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9.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1092240" y="4152960"/>
            <a:ext cx="2612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 did the difference between the original price and the new price. Second I divided the difference price by the original price to get the percent of change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397400" y="4349880"/>
            <a:ext cx="22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8" name="" descr="Bold NY Zip-Front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7920" y="3508200"/>
            <a:ext cx="173340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52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ero Vintage Stacked Graphic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2362320"/>
          <a:ext cx="7693200" cy="12603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 did the difference between the original price and the new price. Next  I divided the difference price by the original price to get the percent of change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95720" y="3286080"/>
            <a:ext cx="952560" cy="285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95720" y="3286080"/>
            <a:ext cx="95256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ero Vintage Stacked Graphic T - Aéropostale®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48280" y="342900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uch did you sp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ought a Ae Graphic Full Zip Hoodie for $34.5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spent $14.99 on a Ombre Plaid Woven Shi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ought a Bold My Zip Front-Hoodie for $29.9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spent $9.99 on a Aero Vintage Stacked Graph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otal of the new price is $89.4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al Pr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 of Ae Graphic Full Zip Hoodie is $39.5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 of Ombre Plaid Woven Shirt is Aero Vintage Stacked Graphic  $39.5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 of Bold My Zip Front-Hoodie is $54.5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 of Aero Vintage Stacked Graphic is $9.9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otal of the original prices is $143.4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 sentence to state the total of original pr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savin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saved $54.02 for all clo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ercent of change of all close 38%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57:11Z</dcterms:modified>
  <cp:revision>4</cp:revision>
  <dc:subject/>
  <dc:title>Write a title here.</dc:title>
</cp:coreProperties>
</file>