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78C-18F8-4C63-9614-41D7B037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BC8-117B-4A20-B9D2-465626D6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A68-6913-4738-A114-E3A68C34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472-F11F-461B-9781-645AC2D6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54F3-4ED6-4F31-B9EA-1E25010F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C372-6F8C-47EA-864D-4F70722C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C7EA-50F2-463C-9048-504B2566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145D-B5E4-443D-A487-2F1DD8DA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5815-E512-4380-8C14-E7AD1A0E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A0C4-1928-44CB-BAA0-46C84352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D402-45EE-4E22-A1F8-059F75C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8F2-A1CA-4FB9-BE51-704A2A71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AE72-434D-4E01-80A8-31CDC3FE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71AF-DBD9-4B22-BE03-261C07C8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0986-2B60-4863-86EA-7BEADFCC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826F-D57C-4103-ACA7-4166BE28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3B4-700B-4159-9613-F511F75B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9DD-D025-4E22-A2CE-424FC2CE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6B7-7873-4FD8-A376-13FA2AB5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12D-26D9-4C7D-99A7-A0DD38B4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5E5-5B9F-4673-AF3F-7F5F82C9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C32-A561-4DC7-B8F0-3729FF6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457-27AB-4C8B-90F0-C47BE94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A21-5F41-4D14-8C81-C74568C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D286C-B058-4F63-A7A4-F236B811430C}" type="datetime">
              <a:rPr b="0" lang="en-US" sz="1400" spc="-1" strike="noStrike">
                <a:solidFill>
                  <a:srgbClr val="003366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B8DEB-BA64-4F89-B212-000132EDBD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52CF9-A241-4197-AA69-626AE9C079E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DD55D-0A22-4A00-A635-5044CE6BE1D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19313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2218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aeropostale.com/product/index.jsp?productId=4286477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rcent Change Assig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2960"/>
            <a:ext cx="5984640" cy="14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Lawrence Che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e Graphic Full Zip Hoodi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2362320"/>
          <a:ext cx="7693200" cy="126036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9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Box 4"/>
          <p:cNvSpPr/>
          <p:nvPr/>
        </p:nvSpPr>
        <p:spPr>
          <a:xfrm>
            <a:off x="457200" y="3981600"/>
            <a:ext cx="26128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did the difference between the original price and the new price. Next  I divided the difference price by the original price to get the percent of change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99" name="" descr="AE Graphic Full Zip Hoodie"/>
          <p:cNvPicPr/>
          <p:nvPr/>
        </p:nvPicPr>
        <p:blipFill>
          <a:blip r:embed="rId1"/>
          <a:stretch/>
        </p:blipFill>
        <p:spPr>
          <a:xfrm>
            <a:off x="5049720" y="3643200"/>
            <a:ext cx="188604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mbre Plaid Woven Shir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2362320"/>
          <a:ext cx="7693200" cy="126036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9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.9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Box 4"/>
          <p:cNvSpPr/>
          <p:nvPr/>
        </p:nvSpPr>
        <p:spPr>
          <a:xfrm>
            <a:off x="457200" y="3981600"/>
            <a:ext cx="26128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did the difference between the original price and the new price. Second I divided the difference price by the original price to get the percent of change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3" name="" descr="Ombre Plaid Woven Shir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2520" y="3894120"/>
            <a:ext cx="17337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ld My Zip Front-Hoodi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362320"/>
          <a:ext cx="7693200" cy="126036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4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9.9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1092240" y="4152960"/>
            <a:ext cx="26128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 did the difference between the original price and the new price. Second I divided the difference price by the original price to get the percent of change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397400" y="4349880"/>
            <a:ext cx="22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8" name="" descr="Bold NY Zip-Front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7920" y="3508200"/>
            <a:ext cx="173340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52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ero Vintage Stacked Graphic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2362320"/>
          <a:ext cx="7693200" cy="126036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9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 did the difference between the original price and the new price. Next  I divided the difference price by the original price to get the percent of change.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95720" y="3286080"/>
            <a:ext cx="952560" cy="285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95720" y="3286080"/>
            <a:ext cx="95256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ero Vintage Stacked Graphic T - Aéropostale®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48280" y="342900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uch did you sp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ought a Ae Graphic Full Zip Hoodie for $34.5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spent $14.99 on a Ombre Plaid Woven Shi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ought a Bold My Zip Front-Hoodie for $29.9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spent $9.99 on a Aero Vintage Stacked Graph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otal of the new price is $89.4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al Pr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 of Ae Graphic Full Zip Hoodie is $39.5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 of Ombre Plaid Woven Shirt is Aero Vintage Stacked Graphic  $39.5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 of Bold My Zip Front-Hoodie is $54.5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 of Aero Vintage Stacked Graphic is $9.9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otal of the original prices is $143.4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al pr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 sentence to state the total of original pr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savin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saved $54.02 for all clo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ercent of change of all close 38%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57:11Z</dcterms:modified>
  <cp:revision>4</cp:revision>
  <dc:subject/>
  <dc:title>Write a title here.</dc:title>
</cp:coreProperties>
</file>