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321-2AC1-4D74-84D2-3B3EFDFA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5B0-4A93-4BC0-A72A-33991AD6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336-DAA0-4F50-9EA5-7A79F522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540-0022-4314-BC66-A2F58459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D4CE-9677-4642-A1B1-FBC40FDB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07C7-E2FC-4BD9-8DEC-F7BBC76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9A0E-62B6-4D54-9EF7-1B073916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95D6-1704-4919-B852-4CED8A9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B26-5F40-479F-A359-3F1F6C2E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3CB1-8F09-430F-8E08-F5C20FBC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A08-576E-476D-A967-BEBE3FB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13A-638A-47D3-B69F-5942B59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05E-52FF-481C-BABD-FDE360D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B1C-8DA6-4A14-B004-745D72D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997-9BF1-4CA7-989E-8DD7DD5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49B7-A36E-4B79-B5A4-39F5F70E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768-A7A2-43EF-BDC2-8681B0DD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04F-91F9-4A7C-B2F5-4AB3A712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F5D-C076-4A4F-8051-5FC9153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185-6845-43BF-8C9D-68AB208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16C-CCCA-4434-8BA6-C46EB53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904-DB9E-4804-85F0-974CCD3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408-C542-401B-BFA3-A873C4F8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AF4-5826-4B17-AFAD-D7EE836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C03EC-566A-4B43-BE8F-A73D208A7A04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09C53-9F8D-40B7-9D42-39A834CCCF6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3442A-5528-4145-87CE-3EEA0D3D65D2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C7D07-0F43-410B-8648-D742544D8F9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48599&amp;vid=1&amp;pid=75175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7090&amp;vid=1&amp;pid=749465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7857&amp;vid=1&amp;pid=763712&amp;scid=763712002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13658&amp;vid=1&amp;pid=78310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hopp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5760" y="3871440"/>
            <a:ext cx="57420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isa Fl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1gap jea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.9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4.6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4"/>
          <p:cNvSpPr/>
          <p:nvPr/>
        </p:nvSpPr>
        <p:spPr>
          <a:xfrm>
            <a:off x="457200" y="3981600"/>
            <a:ext cx="2612880" cy="256284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I subtracting the original price (79.50)  which the new price (44.90) and this is equal (34.6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I divide the difference (34.6) which the original price and the answer is (44%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81636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2 sweat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5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457200" y="330516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79.50)  which the new price (49.90) and this is equal (25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25.51) which the original price and the answer is (32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9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Box 4"/>
          <p:cNvSpPr/>
          <p:nvPr/>
        </p:nvSpPr>
        <p:spPr>
          <a:xfrm>
            <a:off x="608040" y="336708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59.50)  which the new price (19.99) and this is equal (39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39.51) which the original price and the answer is (66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868560" y="4145040"/>
            <a:ext cx="229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3367080"/>
            <a:ext cx="1924200" cy="2571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36720" y="37620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tem #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4 dres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457200" y="337824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69.50)  which the new price (24.99) and this is equal (44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44.51) which the original price and the answer is (64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much did you spend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 jeans for $4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sweater for $4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dresses for $1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dresses for $24.99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riginal Pri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 jeans was79.50 and I bought for 44.90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sweater was 79.50  and I bought for 4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dresses was 59.50 and I bought for 1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dresses 69.50 and I bought for 2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savings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saved 34.60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percent of change is 44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2:04Z</dcterms:modified>
  <cp:revision>4</cp:revision>
  <dc:subject/>
  <dc:title>Write a title here.</dc:title>
</cp:coreProperties>
</file>